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1610-8C50-4F89-BFE1-A23AE34E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2DDE-FF50-42F8-BD62-318A4F20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2251-F675-4025-A1CB-9BDB818EF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5558-42C8-44F9-A366-07D836F04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61E5-0D11-4A45-957D-07EF0D34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F042-C318-45A5-80FB-5B7A3449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620F-A7D9-42BD-A013-D3AB5E1B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F6B1-1691-4283-83A8-96EEADCE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041E-40B5-40BF-A145-C5B2812F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47B3-3B01-49E2-A215-467DCB41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9BE7-02C8-4542-AFD6-D2B50112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7DBC-3FAD-4D1F-825A-6B2A7EA8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A56E-9B53-46CB-9E9C-78A933F5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A44F-1FE4-4F89-AD20-6C47C23D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BBCB-8823-457B-AA41-04422CE0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C061-E5F1-4066-95D8-C6C19F98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9170-7EA3-4035-AE64-30A580AC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1C6E8-C324-4EDD-AE7E-4C350B18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E4937-29FC-4A2E-98A1-66FAD705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8733E-BD42-4CB4-BF65-C3D12592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8876F-6330-4877-9352-C91A84E4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1643C-42E5-4106-B076-D0FDD999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960F-2B40-4B98-90A0-F44B49EE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BE10B-2D44-4AF2-81CD-CA63CB2E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7FFEF-3F9F-41C5-8F2A-F041E8F9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E025B-4DC9-4B66-AE24-3FFDFD03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7F381-F39E-46AC-9EFD-4F199ACE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6966E-8CA7-46DA-86EC-51CD7237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7CCD8-E704-473F-9B9B-9F9700F6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10458-A677-4712-953F-008373FFE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06F6F-7013-46F2-BE2A-B920197F6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88438-EDDB-4DCF-9CB5-A42CA308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20487-1CB3-4B9C-8F2A-D9E89F76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09E3-9320-44E9-991D-5D4B2981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18D7C-0F7B-407F-B717-2462372F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D8D31-33ED-4B8C-96BD-EDB73A1F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02CD9-9A52-44DB-A785-865FC2AC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22619-FEB1-4A5A-82E7-5CD4CAD3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8832A-0B01-4A44-88FE-918CCA40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CDE81-22F3-43C8-A9A3-B1A45CF3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40C9F-2A4C-4B9D-88BD-2A3C41E3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5F3A5-B9B4-4AD0-8D86-5B050FF1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BFFA5-9A00-4C80-8B5A-04ADECF09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96300-36F2-4D8C-A08F-E5829256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C3D0-DFA9-42D5-BD76-65652384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CCA37-0C89-4874-A4C2-5C983510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1BC0E-F788-44CF-9445-D824CD82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F1B3A-E8E6-49CC-A7A5-E0EA11DE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2F8DD-13E4-4C20-8A6C-462C966C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65CB7-C474-46DB-9E1C-F11E5BB9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E2EAA-2C5B-405D-8330-E63CDD05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DB9E9-C7A8-485E-854D-C8582443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84907-9BBA-4DB7-962E-2787037B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2F933-FEFD-4701-B070-3050F89F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7C336-8F60-4592-985A-BF8968974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0452-48A1-49C4-9BB7-8DB07EE8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841A3-84D5-44AA-AE3D-309A535A5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6943-D038-4235-B209-9B6896D1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0533-5C2A-4915-8EB5-19645A2A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E3A0-09F2-42F2-A8F2-9FA6CA32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071F-1793-45DE-B8BC-41171CE31AB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9BAC-DA6A-4A0E-86DA-94DF4109220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D70B-9926-4908-B643-E65BECAF98F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5921-353D-4ED4-B3A3-229FB19D263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5191-A71A-4536-A0D6-24A81F3F9E4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comic"/>
              </a:rPr>
              <a:t>Unit -8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"/>
              </a:rPr>
              <a:t>Information and communication technolog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4403880" y="293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990720" y="4773600"/>
            <a:ext cx="69339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Bell MT"/>
              </a:rPr>
              <a:t>Department of A. H. Extension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Bell MT"/>
              </a:rPr>
              <a:t>Bihar Veterinary College, Patna-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2971800" y="5867280"/>
            <a:ext cx="642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 Black"/>
              </a:rPr>
              <a:t>         </a:t>
            </a:r>
            <a:r>
              <a:rPr b="0" lang="en-US" sz="2400" spc="-1" strike="noStrike">
                <a:solidFill>
                  <a:srgbClr val="7030a0"/>
                </a:solidFill>
                <a:latin typeface="Arial Black"/>
              </a:rPr>
              <a:t>Instructor :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Dr. Saroj K. Raj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haroni"/>
                <a:ea typeface="Aharoni"/>
              </a:rPr>
              <a:t>           </a:t>
            </a:r>
            <a:r>
              <a:rPr b="0" lang="en-US" sz="2400" spc="-1" strike="noStrike">
                <a:solidFill>
                  <a:srgbClr val="000099"/>
                </a:solidFill>
                <a:latin typeface="Aharoni"/>
                <a:ea typeface="Aharoni"/>
              </a:rPr>
              <a:t>Asstt. 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7"/>
          <p:cNvSpPr/>
          <p:nvPr/>
        </p:nvSpPr>
        <p:spPr>
          <a:xfrm>
            <a:off x="228600" y="3164040"/>
            <a:ext cx="83818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dney"/>
              </a:rPr>
              <a:t>Topic : </a:t>
            </a:r>
            <a:r>
              <a:rPr b="1" lang="en-US" sz="3200" spc="-1" strike="noStrike">
                <a:solidFill>
                  <a:srgbClr val="000099"/>
                </a:solidFill>
                <a:latin typeface="Bell MT"/>
              </a:rPr>
              <a:t>Computer Net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Bell MT"/>
              </a:rPr>
              <a:t>      </a:t>
            </a:r>
            <a:r>
              <a:rPr b="1" lang="en-US" sz="3200" spc="-1" strike="noStrike">
                <a:solidFill>
                  <a:srgbClr val="000099"/>
                </a:solidFill>
                <a:latin typeface="Bell MT"/>
              </a:rPr>
              <a:t>LAN, MAN, W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4" descr="E:\Dr. Saroj New 1 W bkt 21.02.2016\LOGO\New Logo\BASU LOGO copy.jpg"/>
          <p:cNvPicPr/>
          <p:nvPr/>
        </p:nvPicPr>
        <p:blipFill>
          <a:blip r:embed="rId1"/>
          <a:stretch/>
        </p:blipFill>
        <p:spPr>
          <a:xfrm>
            <a:off x="3048120" y="163440"/>
            <a:ext cx="2514600" cy="1193760"/>
          </a:xfrm>
          <a:prstGeom prst="rect">
            <a:avLst/>
          </a:prstGeom>
          <a:ln w="0">
            <a:noFill/>
          </a:ln>
        </p:spPr>
      </p:pic>
      <p:pic>
        <p:nvPicPr>
          <p:cNvPr id="238" name="Rectangle 9" descr=""/>
          <p:cNvPicPr/>
          <p:nvPr/>
        </p:nvPicPr>
        <p:blipFill>
          <a:blip r:embed="rId2"/>
          <a:stretch/>
        </p:blipFill>
        <p:spPr>
          <a:xfrm>
            <a:off x="6595920" y="438120"/>
            <a:ext cx="2401920" cy="75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3" name="Picture 2" descr="â¢ISDN ( Integrated service&#10;digital network) 2 types&#10;Basic rate interface&#10;Primary rate interface&#10;â¢Frame relay&#10;â¢Switched mul..."/>
          <p:cNvPicPr/>
          <p:nvPr/>
        </p:nvPicPr>
        <p:blipFill>
          <a:blip r:embed="rId1"/>
          <a:stretch/>
        </p:blipFill>
        <p:spPr>
          <a:xfrm>
            <a:off x="243000" y="244440"/>
            <a:ext cx="872640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7" name="Picture 2" descr="BASIS&#10;Full Form&#10;Range&#10;&#10;LAN&#10;Local Area Network&#10;&#10;MAN&#10;Metropolitan Area&#10;Network&#10;A communication network This network shares t..."/>
          <p:cNvPicPr/>
          <p:nvPr/>
        </p:nvPicPr>
        <p:blipFill>
          <a:blip r:embed="rId1"/>
          <a:stretch/>
        </p:blipFill>
        <p:spPr>
          <a:xfrm>
            <a:off x="276120" y="182520"/>
            <a:ext cx="8182080" cy="61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1" name="Picture 2" descr="Lan, man and wan ppt final"/>
          <p:cNvPicPr/>
          <p:nvPr/>
        </p:nvPicPr>
        <p:blipFill>
          <a:blip r:embed="rId1"/>
          <a:stretch/>
        </p:blipFill>
        <p:spPr>
          <a:xfrm>
            <a:off x="152280" y="250920"/>
            <a:ext cx="8801280" cy="66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5" name="Picture 2" descr="Lan, man and wan ppt final"/>
          <p:cNvPicPr/>
          <p:nvPr/>
        </p:nvPicPr>
        <p:blipFill>
          <a:blip r:embed="rId1"/>
          <a:stretch/>
        </p:blipFill>
        <p:spPr>
          <a:xfrm>
            <a:off x="141120" y="457200"/>
            <a:ext cx="8774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9" name="Picture 2" descr="Lan, man and wan ppt final"/>
          <p:cNvPicPr/>
          <p:nvPr/>
        </p:nvPicPr>
        <p:blipFill>
          <a:blip r:embed="rId1"/>
          <a:stretch/>
        </p:blipFill>
        <p:spPr>
          <a:xfrm>
            <a:off x="533520" y="441360"/>
            <a:ext cx="8150040" cy="60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3" name="Picture 2" descr="Lan, man and wan ppt final"/>
          <p:cNvPicPr/>
          <p:nvPr/>
        </p:nvPicPr>
        <p:blipFill>
          <a:blip r:embed="rId1"/>
          <a:stretch/>
        </p:blipFill>
        <p:spPr>
          <a:xfrm>
            <a:off x="293760" y="174600"/>
            <a:ext cx="869796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7" name="Picture 2" descr="Lan, man and wan ppt final"/>
          <p:cNvPicPr/>
          <p:nvPr/>
        </p:nvPicPr>
        <p:blipFill>
          <a:blip r:embed="rId1"/>
          <a:stretch/>
        </p:blipFill>
        <p:spPr>
          <a:xfrm>
            <a:off x="250920" y="152280"/>
            <a:ext cx="874080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1" name="Picture 2" descr="Lan, man and wan ppt final"/>
          <p:cNvPicPr/>
          <p:nvPr/>
        </p:nvPicPr>
        <p:blipFill>
          <a:blip r:embed="rId1"/>
          <a:stretch/>
        </p:blipFill>
        <p:spPr>
          <a:xfrm>
            <a:off x="228600" y="274680"/>
            <a:ext cx="861048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2" name="Picture 2" descr="CATEGORIES&#10;OF&#10;NETWORKS&#10;&#10; "/>
          <p:cNvPicPr/>
          <p:nvPr/>
        </p:nvPicPr>
        <p:blipFill>
          <a:blip r:embed="rId1"/>
          <a:stretch/>
        </p:blipFill>
        <p:spPr>
          <a:xfrm>
            <a:off x="291960" y="117360"/>
            <a:ext cx="857268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2" descr="ï&#10;&#10;ï&#10;&#10;ï&#10;ï&#10;&#10;ï&#10;&#10;A Local Area Network (LAN) is a collection of networking&#10;equipment located geographically close together.&#10;E...."/>
          <p:cNvPicPr/>
          <p:nvPr/>
        </p:nvPicPr>
        <p:blipFill>
          <a:blip r:embed="rId1"/>
          <a:stretch/>
        </p:blipFill>
        <p:spPr>
          <a:xfrm>
            <a:off x="393840" y="345960"/>
            <a:ext cx="775944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Arial Blac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9072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Rounded Rectangle 3"/>
          <p:cNvSpPr/>
          <p:nvPr/>
        </p:nvSpPr>
        <p:spPr>
          <a:xfrm>
            <a:off x="1371600" y="1600200"/>
            <a:ext cx="6858000" cy="327672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7200" spc="-1" strike="noStrike">
                <a:solidFill>
                  <a:srgbClr val="ffff00"/>
                </a:solidFill>
                <a:latin typeface="Perpetua"/>
              </a:rPr>
              <a:t>LA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7200" spc="-1" strike="noStrike">
                <a:solidFill>
                  <a:srgbClr val="ffff00"/>
                </a:solidFill>
                <a:latin typeface="Perpetua"/>
              </a:rPr>
              <a:t>WA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7200" spc="-1" strike="noStrike">
                <a:solidFill>
                  <a:srgbClr val="ffff00"/>
                </a:solidFill>
                <a:latin typeface="Perpetua"/>
              </a:rPr>
              <a:t>MA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3" name="Picture 4" descr="A work to internet connections would most&#10;likely require broadcast network (LAN) with a&#10;connection to the internet (packet..."/>
          <p:cNvPicPr/>
          <p:nvPr/>
        </p:nvPicPr>
        <p:blipFill>
          <a:blip r:embed="rId1"/>
          <a:stretch/>
        </p:blipFill>
        <p:spPr>
          <a:xfrm>
            <a:off x="90360" y="174600"/>
            <a:ext cx="867276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7" name="Picture 2" descr="â¢&#10;â¢&#10;â¢&#10;&#10;Cost reductions through sharing of information and&#10;databases, resources and network services.&#10;Increased information..."/>
          <p:cNvPicPr/>
          <p:nvPr/>
        </p:nvPicPr>
        <p:blipFill>
          <a:blip r:embed="rId1"/>
          <a:stretch/>
        </p:blipFill>
        <p:spPr>
          <a:xfrm>
            <a:off x="419040" y="22320"/>
            <a:ext cx="849636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1" name="Picture 2" descr="ï&#10;&#10;There are three topologies of LAN Network&#10;Ring&#10;Topology&#10;&#10;Bus&#10;Topology&#10;&#10;LAN&#10;Topologies&#10;&#10;Star&#10;Topology&#10;&#10; "/>
          <p:cNvPicPr/>
          <p:nvPr/>
        </p:nvPicPr>
        <p:blipFill>
          <a:blip r:embed="rId1"/>
          <a:stretch/>
        </p:blipFill>
        <p:spPr>
          <a:xfrm>
            <a:off x="503280" y="200160"/>
            <a:ext cx="825984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5" name="Picture 2" descr="ï&#10;&#10;ï&#10;&#10;ï&#10;ï&#10;&#10;The metropolitan area network (MAN) is designed&#10;to extend over an entire city.&#10;It may be a single network such ..."/>
          <p:cNvPicPr/>
          <p:nvPr/>
        </p:nvPicPr>
        <p:blipFill>
          <a:blip r:embed="rId1"/>
          <a:stretch/>
        </p:blipFill>
        <p:spPr>
          <a:xfrm>
            <a:off x="598320" y="380880"/>
            <a:ext cx="81187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9" name="Picture 2" descr="â¢Covers a large geographical area&#10;so long distance businesses can&#10;connect on the one network.&#10;â¢Shares software and resourc..."/>
          <p:cNvPicPr/>
          <p:nvPr/>
        </p:nvPicPr>
        <p:blipFill>
          <a:blip r:embed="rId1"/>
          <a:stretch/>
        </p:blipFill>
        <p:spPr>
          <a:xfrm>
            <a:off x="243000" y="216000"/>
            <a:ext cx="8440560" cy="63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5:55:55Z</dcterms:created>
  <dc:creator>imam</dc:creator>
  <dc:description/>
  <dc:language>en-US</dc:language>
  <cp:lastModifiedBy>Dr. Saroj</cp:lastModifiedBy>
  <dcterms:modified xsi:type="dcterms:W3CDTF">2020-04-29T04:15:23Z</dcterms:modified>
  <cp:revision>163</cp:revision>
  <dc:subject/>
  <dc:title>Slide 1</dc:title>
</cp:coreProperties>
</file>