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B5AF-40C9-4860-86A5-1D5A4483C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CCF7-AE05-431C-B031-A64381C53E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E4E0-6A84-4AC8-86A8-D5F80D10D6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D49-C4E0-4BAD-B433-F23BA6C9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717-9BFF-42D4-8A5D-E263FD63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E54-BD55-417C-A3A0-17CEE859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68E6-A31D-48F0-AEAA-15BCD3E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E418-AD61-40DC-8E3C-5E96161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0D35-8336-4969-9615-B7A14F96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05B-6A85-44D0-909F-E91D3EF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E48-2389-4CE8-9BE8-11DB13DF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4871-82D7-4499-8B6D-E6A769BF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3E1A-C3DD-45B5-8317-F15B236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8DD0-31A2-48F0-A561-7876D18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5FF-6906-4605-88A1-86D74D3A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5FD3-016B-4CE9-9869-096DB559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763B-D14D-4E4C-B612-56582DA7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6EE2-E0FB-4F04-8FF9-AAA5B947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0CD4-5128-4733-935B-00C14100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2D2-B54D-404A-B33D-6140B1D4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C04-84CA-40BE-9F15-C16E58CA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934-3A84-4A29-86CE-132D9DC9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7B6-FAB0-4DB5-94F9-576A1F9D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7A3-68A9-470C-BD33-41669260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17B-36AD-4C2A-A62B-5756D976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A73-DCB0-468D-AA66-863BC6E8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AB4-8BDA-456A-8A1A-7AD7F65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A6C-53E7-41C6-A6FB-27FA54B837E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0680" y="316044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0680" y="410148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160" y="503928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0680" y="33804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160" y="127260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160" y="221652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0680" y="316044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0680" y="410148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160" y="503928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2480" y="5992920"/>
              <a:ext cx="883800" cy="844560"/>
            </a:xfrm>
            <a:prstGeom prst="parallelogram">
              <a:avLst>
                <a:gd name="adj" fmla="val 5541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0680" y="338040"/>
              <a:ext cx="893160" cy="844560"/>
            </a:xfrm>
            <a:prstGeom prst="parallelogram">
              <a:avLst>
                <a:gd name="adj" fmla="val 560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160" y="127260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160" y="2216520"/>
              <a:ext cx="893160" cy="844920"/>
            </a:xfrm>
            <a:prstGeom prst="parallelogram">
              <a:avLst>
                <a:gd name="adj" fmla="val 5597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8433-5557-464A-B448-CA2606E89E2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FLATOXINS AND THEIR EFFECT IN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SH TISSU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1371600" y="373392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haroni"/>
                <a:ea typeface="Aharoni"/>
              </a:rPr>
              <a:t>Bhartendu Vi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haroni"/>
                <a:ea typeface="Aharoni"/>
              </a:rPr>
              <a:t>Guest Faculty-Asst. Pr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haroni"/>
                <a:ea typeface="Aharoni"/>
              </a:rPr>
              <a:t>College of Fisheries, Kishanganj, BASU, Pat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athology of aflatoxico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 sig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 gil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  blood clott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em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s of appeti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or grow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NICAL SIGNS ON PROLONGED FEEDING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llowing of body( yellow Disease in C. catfish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ye opac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rac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indne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les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 and tail ro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t…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d no of RB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normal swimm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ired immune function(IM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susceptibility to shell disease  is observed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.monod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914400" indent="34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iver Cell Carcinoma:  aflatoxico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837720" y="2044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buClr>
                <a:srgbClr val="66ff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outward signs of aflatoxicosis or hepatoma during the early stages of tumor growth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just">
              <a:lnSpc>
                <a:spcPct val="100000"/>
              </a:lnSpc>
              <a:buClr>
                <a:srgbClr val="66ff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argement of the liver may then take place and the fish becomes emaciat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just">
              <a:lnSpc>
                <a:spcPct val="100000"/>
              </a:lnSpc>
              <a:buClr>
                <a:srgbClr val="66ff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disease progresses, liver nodules grow and contact other orga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 algn="just">
              <a:lnSpc>
                <a:spcPct val="100000"/>
              </a:lnSpc>
              <a:buClr>
                <a:srgbClr val="66ff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rmatory diagnosis  via histopathology/ oncology of the tumor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Hepatoma Therapy and Control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3581640"/>
          </a:xfrm>
          <a:prstGeom prst="rect">
            <a:avLst/>
          </a:prstGeom>
          <a:noFill/>
          <a:ln w="9360">
            <a:solidFill>
              <a:srgbClr val="2181b7"/>
            </a:solidFill>
            <a:miter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therap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-274320" algn="just">
              <a:lnSpc>
                <a:spcPct val="100000"/>
              </a:lnSpc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eliminate aflatoxin from the ration in subsequent genera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-274320" algn="just">
              <a:lnSpc>
                <a:spcPct val="100000"/>
              </a:lnSpc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addition of propionic acid or ammonia treatment of the feedstuff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-274320" algn="just">
              <a:lnSpc>
                <a:spcPct val="100000"/>
              </a:lnSpc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sis:  morbidity may reach 70% in culture facili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74320" indent="-274320" algn="just">
              <a:lnSpc>
                <a:spcPct val="100000"/>
              </a:lnSpc>
              <a:buClr>
                <a:srgbClr val="ff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ar relationship between cottonseed meal intake and incidence of hepatom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t.,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yellow lesions in kidney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largement of the kidney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rosis of the gastric gland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AF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Impact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is classified as a Group I  hepatocarcinogen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6705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676520" y="15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81b7"/>
                </a:solidFill>
                <a:latin typeface="Times New Roman"/>
              </a:rPr>
              <a:t>Tilpia fed with moldy f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1523880" y="3733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81b7"/>
                </a:solidFill>
                <a:latin typeface="Times New Roman"/>
              </a:rPr>
              <a:t>Tilapia fed with feed without mou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ro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511632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868680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lammed and jaundiced fish l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7696080" y="8380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lammed and jaundiced fish l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5-Point Star 7"/>
          <p:cNvSpPr/>
          <p:nvPr/>
        </p:nvSpPr>
        <p:spPr>
          <a:xfrm>
            <a:off x="7924680" y="3505320"/>
            <a:ext cx="609840" cy="380880"/>
          </a:xfrm>
          <a:custGeom>
            <a:avLst/>
            <a:gdLst/>
            <a:ahLst/>
            <a:rect l="l" t="t" r="r" b="b"/>
            <a:pathLst>
              <a:path w="609600" h="381000">
                <a:moveTo>
                  <a:pt x="1" y="145529"/>
                </a:moveTo>
                <a:lnTo>
                  <a:pt x="116424" y="40223"/>
                </a:lnTo>
                <a:lnTo>
                  <a:pt x="304800" y="0"/>
                </a:lnTo>
                <a:lnTo>
                  <a:pt x="493176" y="40223"/>
                </a:lnTo>
                <a:lnTo>
                  <a:pt x="609599" y="145529"/>
                </a:lnTo>
                <a:lnTo>
                  <a:pt x="609599" y="275693"/>
                </a:lnTo>
                <a:lnTo>
                  <a:pt x="493176" y="380999"/>
                </a:lnTo>
                <a:lnTo>
                  <a:pt x="304800" y="421222"/>
                </a:lnTo>
                <a:lnTo>
                  <a:pt x="116424" y="380999"/>
                </a:lnTo>
                <a:lnTo>
                  <a:pt x="1" y="275693"/>
                </a:lnTo>
                <a:lnTo>
                  <a:pt x="1" y="145529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6fbc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5-Point Star 9"/>
          <p:cNvSpPr/>
          <p:nvPr/>
        </p:nvSpPr>
        <p:spPr>
          <a:xfrm>
            <a:off x="5105520" y="6400800"/>
            <a:ext cx="609480" cy="457200"/>
          </a:xfrm>
          <a:custGeom>
            <a:avLst/>
            <a:gdLst/>
            <a:ahLst/>
            <a:rect l="l" t="t" r="r" b="b"/>
            <a:pathLst>
              <a:path w="609600" h="457200">
                <a:moveTo>
                  <a:pt x="1" y="174634"/>
                </a:moveTo>
                <a:lnTo>
                  <a:pt x="116424" y="48268"/>
                </a:lnTo>
                <a:lnTo>
                  <a:pt x="304800" y="0"/>
                </a:lnTo>
                <a:lnTo>
                  <a:pt x="493176" y="48268"/>
                </a:lnTo>
                <a:lnTo>
                  <a:pt x="609599" y="174634"/>
                </a:lnTo>
                <a:lnTo>
                  <a:pt x="609599" y="330832"/>
                </a:lnTo>
                <a:lnTo>
                  <a:pt x="493176" y="457199"/>
                </a:lnTo>
                <a:lnTo>
                  <a:pt x="304800" y="505467"/>
                </a:lnTo>
                <a:lnTo>
                  <a:pt x="116424" y="457199"/>
                </a:lnTo>
                <a:lnTo>
                  <a:pt x="1" y="330832"/>
                </a:lnTo>
                <a:lnTo>
                  <a:pt x="1" y="174634"/>
                </a:lnTo>
                <a:close/>
              </a:path>
            </a:pathLst>
          </a:custGeom>
          <a:solidFill>
            <a:srgbClr val="99ffcc"/>
          </a:solidFill>
          <a:ln w="25560">
            <a:solidFill>
              <a:srgbClr val="6fbc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flatoxin 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000920" y="5067360"/>
            <a:ext cx="2143080" cy="1790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990720" y="0"/>
            <a:ext cx="2143080" cy="1790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371600" y="1523880"/>
            <a:ext cx="746748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480" indent="601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480" indent="60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turally occurring myco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480" indent="6012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flavu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parasiticu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480" indent="601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risky at warmer cl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480" indent="601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cinogenic and ubiquit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480" indent="601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perly stored feeds and feeds with  inferior quality of ingred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Normal liver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324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1371600" y="4038480"/>
            <a:ext cx="6072120" cy="24768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2666880" y="33526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tensive necrosis in l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Impact"/>
              </a:rPr>
              <a:t>Early necrosis where the normal cells become reddish to pale brown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Impact"/>
              </a:rPr>
              <a:t>Acute cellular swelling or ballooning necrosi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005280" y="2792520"/>
            <a:ext cx="4200480" cy="26193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Impact"/>
              </a:rPr>
              <a:t>Granuloma in liver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3143160" y="2697120"/>
            <a:ext cx="3924360" cy="2809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y does toxicity vary in fishes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The age and species of the fish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>
              <a:lnSpc>
                <a:spcPct val="100000"/>
              </a:lnSpc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Fry are more susceptible to aflatoxicosis than adult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>
              <a:lnSpc>
                <a:spcPct val="100000"/>
              </a:lnSpc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some species of fish are more sensitive to aflatoxins than others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plant ingredients  are more infested 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Tropical conditions-more favourable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>
              <a:lnSpc>
                <a:spcPct val="100000"/>
              </a:lnSpc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Impact"/>
              </a:rPr>
              <a:t>Regulatory Control of Aflatoxin Levels 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USFDA  regulat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aximum of 20 ppb in feeds or feed ingredients for domestic animal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ppb-breeding cattle, poultry and swin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ppb-feedlot cattl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y do dey need more concern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latoxins act synergistically -negative effects of two mycotoxins are worse than the effects of each individually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latoxins are also extremely stabl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eat and pressure of pelleting and extrusion do not destroy appreciable amount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revention strategi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agronomic pract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on of resistant varieti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 crop rot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ow up harvest resid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storage practic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in dry, cool plac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diff. ingredients separatel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t…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 of mycotoxin absorbing agen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; Mycosorb - From glucan fraction of yeast cellwall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  the affected feedstuff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kits are available for rapid                                           identific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  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   </a:t>
            </a:r>
            <a:r>
              <a:rPr b="0" lang="en-US" sz="9600" spc="-1" strike="noStrike">
                <a:solidFill>
                  <a:srgbClr val="ffffff"/>
                </a:solidFill>
                <a:latin typeface="Brush Script MT"/>
              </a:rPr>
              <a:t>Thank you…..</a:t>
            </a:r>
            <a:endParaRPr b="0" lang="en-US" sz="9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t…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13712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ause of high mortality in livestock and in some cases of death in human being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in the body, aflatoxins may be metabolize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by the liver reactive epoxide intermediat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hydroxylated and become the less harmful aflatoxin M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ypes of  aflatoxin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48" name="Content Placeholder 11" descr=""/>
          <p:cNvPicPr/>
          <p:nvPr/>
        </p:nvPicPr>
        <p:blipFill>
          <a:blip r:embed="rId1"/>
          <a:stretch/>
        </p:blipFill>
        <p:spPr>
          <a:xfrm>
            <a:off x="689040" y="676440"/>
            <a:ext cx="7772400" cy="5889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Aflatoxicosis in fish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Term for  disease  conditions  caused by aflatoxin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effff"/>
                </a:solidFill>
                <a:latin typeface="Times New Roman"/>
                <a:ea typeface="Times New Roman"/>
              </a:rPr>
              <a:t>when feed contaminated with aflatoxins is eaten by the fish.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ont…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irst of mycotoxins to be investigated in aquacultu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first report –trout hatcheries in 1960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he carcinogenic effect of aflatoxin B1 has been studied in fish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salmonid, rainbow trout, channel catfish, Nile tilapia, guppy and Indian major carps and </a:t>
            </a: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Penaeus monodon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usceptible feedstuff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round nut oil c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tton seed oil c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iz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ybean oil  c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anut oil c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nflower oil cak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Impact"/>
              </a:rPr>
              <a:t>Factors affecting production of aflatoxins 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Environmental temperatures above 27°C (80°F)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humidity levels greater than 62%,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moisture levels in the feed above 14%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The extent of contamination will vary with geographic location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Mouldy feed in sacks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971800" cy="2667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2828880" cy="2514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6324480" y="944640"/>
            <a:ext cx="26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Boatful of moldy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Reny</dc:creator>
  <dc:description/>
  <dc:language>en-US</dc:language>
  <cp:lastModifiedBy>HP</cp:lastModifiedBy>
  <dcterms:modified xsi:type="dcterms:W3CDTF">2020-05-24T14:33:16Z</dcterms:modified>
  <cp:revision>69</cp:revision>
  <dc:subject/>
  <dc:title>Slide 1</dc:title>
</cp:coreProperties>
</file>