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8F7-B93D-4CAF-860D-E2F71328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4EC-7358-4868-9DEC-6408D5BA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7B1-7F29-4A12-A41F-059CC72C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49E-BC5C-4B6F-8579-50CE455E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32FF-CF7B-4473-BD98-06E93225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0B8F-DC68-42C8-A571-A485C43E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6F55-9B97-4AE4-AA32-046F1B14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A079-4F2C-4937-ADD6-459E8B67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1880-94CA-4038-967D-619010FE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AD2A-8EDE-4771-9A1C-7E221D75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7420-EB5F-4D60-8B32-44F80C05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9A1-9964-43AF-A59C-E84A58F3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30DC-F163-4DB9-8547-FAD7515C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452F-59DD-4252-ABC1-7C4FE0DC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0A33-C0F1-493C-B854-282200AB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DC1E-BB8B-4E1A-9200-0BF79266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6213-FEF5-43F0-A255-8001C70A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8151-7EF2-4C0C-8658-488AAE67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EF9F-816C-461C-BF79-05B99423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74607-C5B3-450E-AC51-CAF94410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D534-34FE-403F-8C9B-950495A4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D5D2-C8EF-44D5-A6EF-DDEE8475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457-BCDB-4455-A3FA-E51C64C0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E4BD-AD05-47D0-BF11-8643E703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8C73-2AE6-4912-B850-B6186B8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0676-8408-4E2D-A6BF-B7B15785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9ACD-E519-48D4-8552-3E5A424C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D481-0211-49D0-9255-5B49BB6C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FAAD-BDAA-4326-8D46-1F0D5ADD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28CE-8A9A-4F2B-B149-CBFAC632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51EE1-92B1-4826-A563-5CCCCC8F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D9611-1917-441F-828A-EAD2429F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456E1-2823-433D-AFB0-1C9CD757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ABF-51BA-4B07-A531-0A6923B6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DA55-1447-4A88-B5C1-15E44A21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90B8C-BD30-45DC-88F8-8A51B333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2177-A9CD-4C65-9865-46593244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792CF-EBBD-47F9-8218-3DE7B5B8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96BA7-CC08-4832-B554-6D255577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6BAA2-F040-4061-8949-CAE71E28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7675-47A3-40D2-BF2E-B14B4A82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617C-3FA5-462A-853D-DF31E055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82DFC-579A-4975-B1AA-43D4D517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91D7B-8EEA-4631-8033-A79B7068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7D7-D931-4301-BF41-496F5806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42310-B463-4F86-BF59-62F98AB3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A0EBC-35A8-4BA1-9BAC-43D7779F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EC5BE-8CB0-4FC0-B54E-8CB56237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46DAC-E828-4500-8D22-D779EA06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03840-F2F2-473C-B788-F7A401D3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C9C1B-EF28-493F-8C74-D3FA825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D837B-6C2E-482D-AFF8-00B9F7E0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F2AB5-2107-4581-80F4-0210D04A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11B37-EC49-4597-9D87-485202A7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52043-E66F-472D-AE05-56A77F4F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261-15E9-4A98-85C4-72E80831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ABED4-0FEA-4DC3-9B31-9AA607F2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057-07C2-4E1A-BE43-50FA10F5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604-D745-4E63-BAF8-94D754E1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9CE-CABC-4D2F-BDFD-2AC646E7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5113-EB2F-4A95-B50E-30689780344C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2DF9-4FC9-41E3-8862-CA9BEB82B0D3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282D-172C-4F8D-BC00-76982ACCEED0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D199-0205-45E7-A061-3B797AFE5FA7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05A9-3A77-43A7-A16E-1D00B472B69F}" type="slidenum">
              <a:rPr b="0" lang="en-I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Users\User\Desktop\Host Microbes interaction\host-microbe-interaction-1-1024.jpg"/>
          <p:cNvPicPr/>
          <p:nvPr/>
        </p:nvPicPr>
        <p:blipFill>
          <a:blip r:embed="rId1"/>
          <a:stretch/>
        </p:blipFill>
        <p:spPr>
          <a:xfrm>
            <a:off x="1357200" y="3286080"/>
            <a:ext cx="5786640" cy="3267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2214720" y="3143160"/>
            <a:ext cx="43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r.Sonia Kum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stt.Prof cum Jr.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airy Microbiology,SGIDT,Pat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User\Desktop\Host Microbes interaction\host-microbe-interaction-11-638.jpg"/>
          <p:cNvPicPr/>
          <p:nvPr/>
        </p:nvPicPr>
        <p:blipFill>
          <a:blip r:embed="rId1"/>
          <a:stretch/>
        </p:blipFill>
        <p:spPr>
          <a:xfrm>
            <a:off x="214200" y="357120"/>
            <a:ext cx="87156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User\Desktop\Host Microbes interaction\host-microbe-interaction-13-638.jpg"/>
          <p:cNvPicPr/>
          <p:nvPr/>
        </p:nvPicPr>
        <p:blipFill>
          <a:blip r:embed="rId1"/>
          <a:stretch/>
        </p:blipFill>
        <p:spPr>
          <a:xfrm>
            <a:off x="500040" y="285840"/>
            <a:ext cx="79297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Users\User\Desktop\Host Microbes interaction\host-microbe-interaction-14-638.jpg"/>
          <p:cNvPicPr/>
          <p:nvPr/>
        </p:nvPicPr>
        <p:blipFill>
          <a:blip r:embed="rId1"/>
          <a:stretch/>
        </p:blipFill>
        <p:spPr>
          <a:xfrm>
            <a:off x="214200" y="428760"/>
            <a:ext cx="84297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Users\User\Desktop\Host Microbes interaction\host-microbe-interaction-16-638.jpg"/>
          <p:cNvPicPr/>
          <p:nvPr/>
        </p:nvPicPr>
        <p:blipFill>
          <a:blip r:embed="rId1"/>
          <a:stretch/>
        </p:blipFill>
        <p:spPr>
          <a:xfrm>
            <a:off x="142920" y="2212920"/>
            <a:ext cx="85010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Users\User\Desktop\Host Microbes interaction\host-microbe-interaction-19-638.jpg"/>
          <p:cNvPicPr/>
          <p:nvPr/>
        </p:nvPicPr>
        <p:blipFill>
          <a:blip r:embed="rId1"/>
          <a:stretch/>
        </p:blipFill>
        <p:spPr>
          <a:xfrm>
            <a:off x="357120" y="500040"/>
            <a:ext cx="82868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User\Desktop\Host Microbes interaction\host-microbe-interaction-20-638.jpg"/>
          <p:cNvPicPr/>
          <p:nvPr/>
        </p:nvPicPr>
        <p:blipFill>
          <a:blip r:embed="rId1"/>
          <a:stretch/>
        </p:blipFill>
        <p:spPr>
          <a:xfrm>
            <a:off x="571680" y="500040"/>
            <a:ext cx="8001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Users\User\Desktop\Host Microbes interaction\host-microbe-interaction-21-638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Users\User\Desktop\Host Microbes interaction\host-microbe-interaction-22-638.jpg"/>
          <p:cNvPicPr/>
          <p:nvPr/>
        </p:nvPicPr>
        <p:blipFill>
          <a:blip r:embed="rId1"/>
          <a:stretch/>
        </p:blipFill>
        <p:spPr>
          <a:xfrm>
            <a:off x="0" y="357120"/>
            <a:ext cx="8786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User\Desktop\Host Microbes interaction\host-microbe-interaction-23-638.jpg"/>
          <p:cNvPicPr/>
          <p:nvPr/>
        </p:nvPicPr>
        <p:blipFill>
          <a:blip r:embed="rId1"/>
          <a:stretch/>
        </p:blipFill>
        <p:spPr>
          <a:xfrm>
            <a:off x="428760" y="285840"/>
            <a:ext cx="85010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User\Desktop\Host Microbes interaction\host-microbe-interaction-24-638.jpg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User\Desktop\Host Microbes interaction\host-microbe-interaction-2-638.jpg"/>
          <p:cNvPicPr/>
          <p:nvPr/>
        </p:nvPicPr>
        <p:blipFill>
          <a:blip r:embed="rId1"/>
          <a:stretch/>
        </p:blipFill>
        <p:spPr>
          <a:xfrm>
            <a:off x="357120" y="285840"/>
            <a:ext cx="85010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User\Desktop\Host Microbes interaction\host-microbe-interaction-26-638.jpg"/>
          <p:cNvPicPr/>
          <p:nvPr/>
        </p:nvPicPr>
        <p:blipFill>
          <a:blip r:embed="rId1"/>
          <a:stretch/>
        </p:blipFill>
        <p:spPr>
          <a:xfrm>
            <a:off x="142920" y="285840"/>
            <a:ext cx="87868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Users\User\Desktop\Host Microbes interaction\host-microbe-interaction-28-638.jpg"/>
          <p:cNvPicPr/>
          <p:nvPr/>
        </p:nvPicPr>
        <p:blipFill>
          <a:blip r:embed="rId1"/>
          <a:stretch/>
        </p:blipFill>
        <p:spPr>
          <a:xfrm>
            <a:off x="285840" y="428760"/>
            <a:ext cx="8643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User\Desktop\Host Microbes interaction\host-microbe-interaction-30-638.jpg"/>
          <p:cNvPicPr/>
          <p:nvPr/>
        </p:nvPicPr>
        <p:blipFill>
          <a:blip r:embed="rId1"/>
          <a:stretch/>
        </p:blipFill>
        <p:spPr>
          <a:xfrm>
            <a:off x="428760" y="428760"/>
            <a:ext cx="82864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C:\Users\User\Desktop\Host Microbes interaction\host-microbe-interaction-31-638.jpg"/>
          <p:cNvPicPr/>
          <p:nvPr/>
        </p:nvPicPr>
        <p:blipFill>
          <a:blip r:embed="rId1"/>
          <a:stretch/>
        </p:blipFill>
        <p:spPr>
          <a:xfrm>
            <a:off x="500040" y="428760"/>
            <a:ext cx="85010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rs\User\Desktop\Host Microbes interaction\host-microbe-interaction-35-638.jpg"/>
          <p:cNvPicPr/>
          <p:nvPr/>
        </p:nvPicPr>
        <p:blipFill>
          <a:blip r:embed="rId1"/>
          <a:stretch/>
        </p:blipFill>
        <p:spPr>
          <a:xfrm>
            <a:off x="142920" y="428760"/>
            <a:ext cx="87152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Users\User\Desktop\Host Microbes interaction\host-microbe-interaction-36-638.jpg"/>
          <p:cNvPicPr/>
          <p:nvPr/>
        </p:nvPicPr>
        <p:blipFill>
          <a:blip r:embed="rId1"/>
          <a:stretch/>
        </p:blipFill>
        <p:spPr>
          <a:xfrm>
            <a:off x="142920" y="214200"/>
            <a:ext cx="85723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Users\User\Desktop\Host Microbes interaction\host-microbe-interaction-38-638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Users\User\Desktop\Host Microbes interaction\host-microbe-interaction-39-638.jpg"/>
          <p:cNvPicPr/>
          <p:nvPr/>
        </p:nvPicPr>
        <p:blipFill>
          <a:blip r:embed="rId1"/>
          <a:stretch/>
        </p:blipFill>
        <p:spPr>
          <a:xfrm>
            <a:off x="214200" y="428760"/>
            <a:ext cx="85010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:\Users\User\Desktop\Host Microbes interaction\host-microbe-interaction-41-638.jpg"/>
          <p:cNvPicPr/>
          <p:nvPr/>
        </p:nvPicPr>
        <p:blipFill>
          <a:blip r:embed="rId1"/>
          <a:stretch/>
        </p:blipFill>
        <p:spPr>
          <a:xfrm>
            <a:off x="214200" y="-71280"/>
            <a:ext cx="857268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User\Desktop\Host Microbes interaction\host-microbe-interaction-43-638.jp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Users\User\Desktop\Host Microbes interaction\host-microbe-interaction-4-638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3" descr=""/>
          <p:cNvPicPr/>
          <p:nvPr/>
        </p:nvPicPr>
        <p:blipFill>
          <a:blip r:embed="rId1"/>
          <a:stretch/>
        </p:blipFill>
        <p:spPr>
          <a:xfrm>
            <a:off x="2395440" y="1901880"/>
            <a:ext cx="30974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Picture 2" descr="C:\Users\User\Desktop\Host Microbes interaction\host-microbe-interaction-6-638.jpg"/>
          <p:cNvPicPr/>
          <p:nvPr/>
        </p:nvPicPr>
        <p:blipFill>
          <a:blip r:embed="rId1"/>
          <a:stretch/>
        </p:blipFill>
        <p:spPr>
          <a:xfrm>
            <a:off x="1533600" y="1147680"/>
            <a:ext cx="6076800" cy="4562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User\Desktop\Host Microbes interaction\host-microbe-interaction-7-638.jpg"/>
          <p:cNvPicPr/>
          <p:nvPr/>
        </p:nvPicPr>
        <p:blipFill>
          <a:blip r:embed="rId2"/>
          <a:stretch/>
        </p:blipFill>
        <p:spPr>
          <a:xfrm>
            <a:off x="1533600" y="1147680"/>
            <a:ext cx="6076800" cy="4562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User\Desktop\Host Microbes interaction\host-microbe-interaction-4-638.jpg"/>
          <p:cNvPicPr/>
          <p:nvPr/>
        </p:nvPicPr>
        <p:blipFill>
          <a:blip r:embed="rId3"/>
          <a:stretch/>
        </p:blipFill>
        <p:spPr>
          <a:xfrm>
            <a:off x="1533600" y="1147680"/>
            <a:ext cx="6076800" cy="4562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Users\User\Desktop\Host Microbes interaction\host-microbe-interaction-5-638.jpg"/>
          <p:cNvPicPr/>
          <p:nvPr/>
        </p:nvPicPr>
        <p:blipFill>
          <a:blip r:embed="rId4"/>
          <a:stretch/>
        </p:blipFill>
        <p:spPr>
          <a:xfrm>
            <a:off x="1533600" y="1147680"/>
            <a:ext cx="60768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User\Desktop\Host Microbes interaction\host-microbe-interaction-6-638.jpg"/>
          <p:cNvPicPr/>
          <p:nvPr/>
        </p:nvPicPr>
        <p:blipFill>
          <a:blip r:embed="rId1"/>
          <a:stretch/>
        </p:blipFill>
        <p:spPr>
          <a:xfrm>
            <a:off x="357120" y="571680"/>
            <a:ext cx="8429760" cy="50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User\Desktop\Host Microbes interaction\host-microbe-interaction-7-638.jpg"/>
          <p:cNvPicPr/>
          <p:nvPr/>
        </p:nvPicPr>
        <p:blipFill>
          <a:blip r:embed="rId1"/>
          <a:stretch/>
        </p:blipFill>
        <p:spPr>
          <a:xfrm>
            <a:off x="142920" y="214200"/>
            <a:ext cx="90010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User\Desktop\Host Microbes interaction\host-microbe-interaction-8-638.jpg"/>
          <p:cNvPicPr/>
          <p:nvPr/>
        </p:nvPicPr>
        <p:blipFill>
          <a:blip r:embed="rId1"/>
          <a:stretch/>
        </p:blipFill>
        <p:spPr>
          <a:xfrm>
            <a:off x="428760" y="285840"/>
            <a:ext cx="81439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User\Desktop\Host Microbes interaction\host-microbe-interaction-9-638.jpg"/>
          <p:cNvPicPr/>
          <p:nvPr/>
        </p:nvPicPr>
        <p:blipFill>
          <a:blip r:embed="rId1"/>
          <a:stretch/>
        </p:blipFill>
        <p:spPr>
          <a:xfrm>
            <a:off x="0" y="142920"/>
            <a:ext cx="90010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User\Desktop\Host Microbes interaction\host-microbe-interaction-10-638.jpg"/>
          <p:cNvPicPr/>
          <p:nvPr/>
        </p:nvPicPr>
        <p:blipFill>
          <a:blip r:embed="rId1"/>
          <a:stretch/>
        </p:blipFill>
        <p:spPr>
          <a:xfrm>
            <a:off x="214200" y="428760"/>
            <a:ext cx="85010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2T16:53:27Z</dcterms:created>
  <dc:creator>HP</dc:creator>
  <dc:description/>
  <dc:language>en-US</dc:language>
  <cp:lastModifiedBy>HP</cp:lastModifiedBy>
  <dcterms:modified xsi:type="dcterms:W3CDTF">2020-06-02T18:58:12Z</dcterms:modified>
  <cp:revision>4</cp:revision>
  <dc:subject/>
  <dc:title>Slide 1</dc:title>
</cp:coreProperties>
</file>