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4.png" ContentType="image/png"/>
  <Override PartName="/ppt/media/image21.jpeg" ContentType="image/jpeg"/>
  <Override PartName="/ppt/media/image13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8.jpeg" ContentType="image/jpeg"/>
  <Override PartName="/ppt/media/image29.jpeg" ContentType="image/jpeg"/>
  <Override PartName="/ppt/media/image4.png" ContentType="image/png"/>
  <Override PartName="/ppt/media/image3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D0B5-9E92-40BE-92FF-62B73A086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AE7B-423F-4116-A3A0-6340C1241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650D-FE7F-4387-A7A5-7F3F196E2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580C-5191-486E-A2BD-4C8221EA9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964F-070F-4FEC-9C83-DA867EEC5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2E79-60EC-49D2-B330-D042CEE9C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CB23-992E-40C5-AA8B-82F2DDF06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2819-3694-46B4-8DF7-49940441D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460E-5E34-4863-A738-D8269CA55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6034-C7B3-4112-B376-163B21361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3AAD-E9CA-4B7E-A5F7-BA16A8E9C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0CE5-9C1D-4319-AC42-5319BC978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A3D9-30AF-4716-A5C9-AC03A1CA2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B84A-8766-413C-AA52-C1CE5D5A3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8ECE-5DA8-4042-8D9F-C8FC8FF84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E9AE-A8F9-4701-8F98-D75E36417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F9AE-7842-4917-B042-B9E05AA01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EFBB-9929-4368-B1A9-9C3EC6DB5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68B3-156E-4315-A2C9-216279116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222A-9EB9-4674-8A01-0FF9B63CF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5F16-9043-4838-B5AC-7F7BF613E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3434-695B-4D67-8B35-F90F714C4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6F16-42D0-465C-A53F-A159DD7C2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82A5-266F-4664-B8BE-D880713CC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2420-6ECB-4867-9523-8B2CCC226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74B1-133E-4630-A4A0-473234FAA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8762-A0DD-401A-AD75-495625B10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6127-6A8E-4A5D-9C0E-F8130F8C9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E5EC-8300-4F07-A448-E5B87E94F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1F01-664B-4F3C-8386-E2D9AFC37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6755-549F-4047-BA2F-DC68C6CAD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80D7-91E7-4384-9664-94C3357F4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2B31-3866-433A-A81A-892A3A4CB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9ED5-5946-4490-969C-7CBBE4E80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7DA9-09E8-4EDD-90C5-986EAD32D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5E79-DFDD-4263-839D-7FA593367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4B93-7528-4447-A833-D83BCDC8F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DEE5-9564-4491-B29A-310F942C0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BD7A-FCD2-4258-8DB5-5F866679A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D4F8-7355-4E65-8A00-A977DAE12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7C43-520A-4AAA-AE70-D314D71D8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ACBF-66D6-4DD9-B02D-2452B42CF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6265-0416-4247-947C-AA515C0ED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C2F6-4731-4BE9-A84C-A822974A5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DB69-F042-4F3F-AC9A-9F4B400FD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D145-3320-4C37-839C-D9668ECBB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AEE7-E6B4-48F1-9513-51172F512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F4FC-5ED0-44F0-B0F2-AC837EB99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7C24-CAF5-4F45-A63A-25EEC49A0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1087-389B-4B8E-B859-3AE5CAF8C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85FA-7340-4967-ACC8-6B004E84F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2F0A-FE54-4292-8025-B6318192D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31B1-BE1C-4BAF-A2AC-DDB250CC2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BDAE-805E-46D0-926E-7BF0DF7EF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7AE8-F579-4379-91B5-CF88FD9EB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06D3-753D-417A-A71E-14AA0AD65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8581-04E4-4314-A1DF-AB83362B0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263C-F797-41F5-9023-6493FCE3B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EB51-B2EF-4ABD-9A8C-DD6A0E33D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2D0D-6A1A-4644-A13B-D0ABAAE3A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B4D9-23A3-444C-917F-7F6A84B4C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480B-58AB-44E9-B110-CF1AC7EF8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BF60-C99F-4131-ADE2-9CE8ECC51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1EEC-0F2A-4A02-ACBA-44E7FB57D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610B-6BFE-492A-BC6C-759EC339E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526E-F9F8-47F5-9F53-2AF1563B7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9C01-0896-489E-9A93-1AC54BEB0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6A9D-10FA-43B6-89D6-EE3A13CCB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0280-4FC5-4ABF-9B96-AFC34B3DF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1F82-890F-445B-A204-83E7ACE5D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58EF-ECF8-4E78-AA63-E7C8B02D4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BC8D-65D3-430F-B046-A3A288AC0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EA58-D808-450B-974D-AF2D4A1AE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8EBE-29B1-48B8-801E-283F606E0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F785-A4A0-4EB5-9632-CF9A9ECD2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9DB9-11CB-412B-B890-69E157718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2258-5656-4D9D-9564-A301487EF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2D80-76BA-4E78-AB1E-941929F7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E709-F970-4BE7-A4B5-A7F0F8D5E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D8E4-F020-44D9-93FA-541ED73B4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2A2B-7D2B-4432-AB53-730F68C1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04BD-0BBE-4F18-9FA5-BEE73D8A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130A-7E14-45A9-B989-CC7444D4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943E-3163-4BE4-8BDE-E461FB46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BC6C-84D1-4533-B926-070916DF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BE07-48ED-4E38-92D8-5B5C0711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EF34-E323-4CCD-B790-0717040A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710A-C457-4271-9F13-3A0879B1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26E0-DE15-4982-AE02-FD701E0F2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Microcyte" TargetMode="External"/><Relationship Id="rId2" Type="http://schemas.openxmlformats.org/officeDocument/2006/relationships/hyperlink" Target="http://en.wikipedia.org/wiki/Anemia" TargetMode="External"/><Relationship Id="rId3" Type="http://schemas.openxmlformats.org/officeDocument/2006/relationships/hyperlink" Target="http://en.wikipedia.org/wiki/Mean_corpuscular_hemoglobin_concentration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Essential_nutrien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ff"/>
                </a:solidFill>
                <a:latin typeface="Bodoni MT Black"/>
              </a:rPr>
              <a:t>Nutritional Pathology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hartendu vim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uest Faculty-Asst. Prof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llege of Fisheries, Kishangan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762012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3300"/>
                </a:solidFill>
                <a:latin typeface="Arial Narrow"/>
              </a:rPr>
              <a:t>Reasons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e of disproportionate amounts of feed proteins with natural specific EAA deficienci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proportionate levels of specific amino acid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rom excessive heat treatment of feed proteins during feed manufactu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rom the chemical treatment of feed proteins with acids or alkali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rom the leaching of free and protein bound amino acids into the wat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591560" y="1600200"/>
            <a:ext cx="1222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73911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sumption of feed proteins containing toxic amino acids include the plant legumes </a:t>
            </a:r>
            <a:r>
              <a:rPr b="0" i="1" lang="en-US" sz="2400" spc="-1" strike="noStrike">
                <a:solidFill>
                  <a:srgbClr val="006600"/>
                </a:solidFill>
                <a:latin typeface="Arial Narrow"/>
              </a:rPr>
              <a:t>Leucaena leucocephal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toxic amino acid - </a:t>
            </a:r>
            <a:r>
              <a:rPr b="0" lang="en-US" sz="2400" spc="-1" strike="noStrike">
                <a:solidFill>
                  <a:srgbClr val="6600ff"/>
                </a:solidFill>
                <a:latin typeface="Arial Narrow"/>
              </a:rPr>
              <a:t>mimosin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; and </a:t>
            </a:r>
            <a:r>
              <a:rPr b="0" i="1" lang="en-US" sz="2400" spc="-1" strike="noStrike">
                <a:solidFill>
                  <a:srgbClr val="006600"/>
                </a:solidFill>
                <a:latin typeface="Arial Narrow"/>
              </a:rPr>
              <a:t>Sesbania grandiflor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0" i="1" lang="en-US" sz="2400" spc="-1" strike="noStrike">
                <a:solidFill>
                  <a:srgbClr val="006600"/>
                </a:solidFill>
                <a:latin typeface="Arial Narrow"/>
              </a:rPr>
              <a:t>Canavalia ensiformi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toxic amino acid - </a:t>
            </a:r>
            <a:r>
              <a:rPr b="0" lang="en-US" sz="2400" spc="-1" strike="noStrike">
                <a:solidFill>
                  <a:srgbClr val="9933ff"/>
                </a:solidFill>
                <a:latin typeface="Arial Narrow"/>
              </a:rPr>
              <a:t>L-canavanin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ertain EAA (ie. leucine) also exert a toxic effect in fish when present in dietary excesses. The reported toxicity signs for a dietary excess of </a:t>
            </a:r>
            <a:r>
              <a:rPr b="0" lang="en-US" sz="2400" spc="-1" strike="noStrike">
                <a:solidFill>
                  <a:srgbClr val="9933ff"/>
                </a:solidFill>
                <a:latin typeface="Arial Narrow"/>
              </a:rPr>
              <a:t>leucine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13-14% of diet) included 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scoliosis, deformed opercula, scale deformities, scale los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and 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spongiosi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of epidermal cel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81480" y="914040"/>
            <a:ext cx="82296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456840"/>
            <a:ext cx="76197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oor feed formulation due to the use of disproportionate amounts of feed proteins with natural specific EAA deficiencies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Narrow"/>
              </a:rPr>
              <a:t>Compared to fish meal, which has a well balanced EAA profile, the majority of protein sources have amino acid imbalances which render them unsuitable as a sole source of dietary protein for fish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* The deficiency of methionine in plant proteins, yeast, meat and bone meal, blood meal, and hydrolysed feather meal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* The deficiency of lysine in oilseeds, hydrolysed feather meal and algae; the deficiency of threonine in some oilseeds and puls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*  The deficiency of tryptophan in fish sil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 Narrow"/>
              </a:rPr>
              <a:t>The </a:t>
            </a:r>
            <a:r>
              <a:rPr b="0" lang="en-US" sz="2400" spc="-1" strike="noStrike">
                <a:solidFill>
                  <a:srgbClr val="c00000"/>
                </a:solidFill>
                <a:latin typeface="Arial Narrow"/>
              </a:rPr>
              <a:t>choice of feedstuffs is the most imp</a:t>
            </a:r>
            <a:r>
              <a:rPr b="0" lang="en-US" sz="2400" spc="-1" strike="noStrike">
                <a:solidFill>
                  <a:srgbClr val="990033"/>
                </a:solidFill>
                <a:latin typeface="Arial Narrow"/>
              </a:rPr>
              <a:t>, to achieve desired overall dietary EAA prof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53080" y="1066320"/>
            <a:ext cx="82296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609480"/>
            <a:ext cx="7467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Reported essential amino acid (EAA) deficiency signs in f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Narrow"/>
              </a:rPr>
              <a:t>Lysine –</a:t>
            </a:r>
            <a:r>
              <a:rPr b="0" lang="en-US" sz="2000" spc="-1" strike="noStrike">
                <a:solidFill>
                  <a:srgbClr val="0000ff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 Narrow"/>
              </a:rPr>
              <a:t>Dorsal/caudal fin eros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 Narrow"/>
              </a:rPr>
              <a:t>Increased mort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ff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Narrow"/>
              </a:rPr>
              <a:t>Methionine</a:t>
            </a:r>
            <a:r>
              <a:rPr b="0" lang="en-US" sz="2000" spc="-1" strike="noStrike">
                <a:solidFill>
                  <a:srgbClr val="0000ff"/>
                </a:solidFill>
                <a:latin typeface="Arial Narrow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 Narrow"/>
              </a:rPr>
              <a:t>Cataract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 Narrow"/>
              </a:rPr>
              <a:t>Tryptophan –</a:t>
            </a:r>
            <a:r>
              <a:rPr b="0" lang="en-US" sz="2000" spc="-1" strike="noStrike">
                <a:solidFill>
                  <a:srgbClr val="0000ff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 Narrow"/>
              </a:rPr>
              <a:t>Scoliosis, lordosis, renal calcinosis, cataract, caudal fin erosion, decreased lipid content; elevated Ca+, Mg, Na and K concentration in carc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Narrow"/>
              </a:rPr>
              <a:t>L</a:t>
            </a:r>
            <a:r>
              <a:rPr b="1" lang="en-US" sz="2000" spc="-1" strike="noStrike">
                <a:solidFill>
                  <a:srgbClr val="0000ff"/>
                </a:solidFill>
                <a:latin typeface="Arial Narrow"/>
              </a:rPr>
              <a:t>eucine, isoleucine, lysine, arginine and histid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 Narrow"/>
              </a:rPr>
              <a:t>Increased mortality and incidence of lordo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807732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DISORDERS IN LIPID NUTRITION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ross anatomical deficiency signs which have been reported with juvenile fish fed EFA deficient die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* Dietary EFA deficiencies result from poor feed formulation or from the use of EFA deficient live food organis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77724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Deficiency sig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Tahoma"/>
              </a:rPr>
              <a:t>* </a:t>
            </a:r>
            <a:r>
              <a:rPr b="0" lang="en-US" sz="2400" spc="-1" strike="noStrike">
                <a:solidFill>
                  <a:srgbClr val="6600ff"/>
                </a:solidFill>
                <a:latin typeface="Arial Narrow"/>
              </a:rPr>
              <a:t>Increased mortality, elevated muscle water content, increased susceptibility to caudal fin erosion by </a:t>
            </a:r>
            <a:r>
              <a:rPr b="0" i="1" lang="en-US" sz="2400" spc="-1" strike="noStrike">
                <a:solidFill>
                  <a:srgbClr val="6600ff"/>
                </a:solidFill>
                <a:latin typeface="Arial Narrow"/>
              </a:rPr>
              <a:t>Flexebacterium</a:t>
            </a:r>
            <a:r>
              <a:rPr b="0" lang="en-US" sz="2400" spc="-1" strike="noStrike">
                <a:solidFill>
                  <a:srgbClr val="6600ff"/>
                </a:solidFill>
                <a:latin typeface="Arial Narrow"/>
              </a:rPr>
              <a:t> sp.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 Narrow"/>
              </a:rPr>
              <a:t>* Decreased haemoglobin and red blood cell volume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6600ff"/>
                </a:solidFill>
                <a:latin typeface="Arial Narrow"/>
              </a:rPr>
              <a:t>* Fatty infiltration and degeneration of liver, swollen pale liver</a:t>
            </a:r>
            <a:r>
              <a:rPr b="0" lang="en-US" sz="2400" spc="-1" strike="noStrike">
                <a:solidFill>
                  <a:srgbClr val="6600ff"/>
                </a:solidFill>
                <a:latin typeface="Arial Narrow"/>
              </a:rPr>
              <a:t>, increased liver lipid con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 Narrow"/>
              </a:rPr>
              <a:t>* Reduced spawning efficiency, decreased hatching and survival rates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 Narrow"/>
              </a:rPr>
              <a:t>* Reduced appetite and growth, reduced feed efficiency, reddening of fi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05920" y="1143000"/>
            <a:ext cx="4495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etary essential fatty acid toxi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 Narrow"/>
              </a:rPr>
              <a:t>A dietary excess of EFA may exert a negative effect on fish growth and feed efficienc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00400" y="533520"/>
            <a:ext cx="8229600" cy="12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761976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ahoma"/>
              </a:rPr>
              <a:t>Toxic non-essential fatty aci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Cyclopropenoic acid</a:t>
            </a:r>
            <a:r>
              <a:rPr b="0" lang="en-US" sz="2800" spc="-1" strike="noStrike">
                <a:solidFill>
                  <a:srgbClr val="6600ff"/>
                </a:solidFill>
                <a:latin typeface="Arial Narrow"/>
              </a:rPr>
              <a:t> is a toxic fatty acid found in the lipid fraction of cottonseed product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 Narrow"/>
              </a:rPr>
              <a:t>Reduce growth ra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 Narrow"/>
              </a:rPr>
              <a:t>Potent synergist for the carcinogenity of aflatoxi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 Narrow"/>
              </a:rPr>
              <a:t>Extreme liver damage with increased glycogen deposition and decreased protein content</a:t>
            </a:r>
            <a:r>
              <a:rPr b="0" lang="en-US" sz="2800" spc="-1" strike="noStrike">
                <a:solidFill>
                  <a:srgbClr val="6600ff"/>
                </a:solidFill>
                <a:latin typeface="Arial Narrow"/>
              </a:rPr>
              <a:t>, and a decrease in activity of some enzym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0" y="380520"/>
            <a:ext cx="82296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09480"/>
            <a:ext cx="8001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ahoma"/>
              </a:rPr>
              <a:t>Oxidation of dietary lipi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33"/>
                </a:solidFill>
                <a:latin typeface="Arial Narrow"/>
              </a:rPr>
              <a:t>Oxidative rancidity</a:t>
            </a:r>
            <a:r>
              <a:rPr b="0" lang="en-US" sz="2400" spc="-1" strike="noStrike">
                <a:solidFill>
                  <a:srgbClr val="990033"/>
                </a:solidFill>
                <a:latin typeface="Arial Narrow"/>
              </a:rPr>
              <a:t> is one of the most deteriorative changes which occurs in stored feedstuff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 the absence of suitable 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antioxidant protectio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lipids rich in polyunsaturated fatty acids (PUFA) are highly prone to auto-oxidation (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. deleteriou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 on exposure to atmospheric oxyg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 Narrow"/>
              </a:rPr>
              <a:t>Fish oils, fish meal, rice bran &amp; oilseed cake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rich in PUFA) contain little or no natural antioxidant activit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 Narrow"/>
              </a:rPr>
              <a:t>Free radicals, peroxides, hydroperoxides, aldehydes and ketone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re formed during the process of lipid auto-oxidation which in turn react with other dietary ingredients (</a:t>
            </a:r>
            <a:r>
              <a:rPr b="0" lang="en-US" sz="2400" spc="-1" strike="noStrike">
                <a:solidFill>
                  <a:srgbClr val="6600ff"/>
                </a:solidFill>
                <a:latin typeface="Arial Narrow"/>
              </a:rPr>
              <a:t>vitamins, proteins and other lipid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 reducing their biological value and availability during digestio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86400" y="837720"/>
            <a:ext cx="82296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609480"/>
            <a:ext cx="7467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ahoma"/>
              </a:rPr>
              <a:t>Pathological effects </a:t>
            </a: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due to</a:t>
            </a:r>
            <a:r>
              <a:rPr b="1" lang="en-US" sz="28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abundance of unsaturated fatty acids in the foo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arked congestion with haemorrhage in dermal vessels around snout and at bases of pectoral/dorsal fins, exophthalmia, abdominal swelling, marked distension of bile duct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teatiti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of all abdominal fat bearing tissue, deposits of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tracellular ceroid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 liver, fatty n swollen liver spleen, kidney and choroid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oor growth, loss of appetite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uscular dystrophy, reduced absorption of dietary lipids, exudative diathesis (increased permeability of blood capillari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pigmentation, muscular dystrophy, dark body colouring, anaemia, lethargy, brown-yellow pigmented liver (ceroid deposition)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icrocytic anaemia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, reduced haematocrit and haemoglobin content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ff"/>
                </a:solidFill>
                <a:latin typeface="Bodoni MT Black"/>
              </a:rPr>
              <a:t>Nutritional Pathology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1. </a:t>
            </a:r>
            <a:r>
              <a:rPr b="0" lang="en-US" sz="2800" spc="-1" strike="noStrike">
                <a:solidFill>
                  <a:srgbClr val="0033cc"/>
                </a:solidFill>
                <a:latin typeface="Arial Narrow"/>
              </a:rPr>
              <a:t>Differences in responses to imbalances in nutrient intakes, i.e., deficiencies vs. ex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2.  Role of nutrition in prevention of disease and how they are applied to different scenar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3. Contribution of nutrient-dependent cellular defenses to disease prevention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486400" y="380880"/>
            <a:ext cx="8229600" cy="1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eatitis, also referred to as yellow fat disease, is a disorder characterized by marked inflammation of adipose (fat) tissu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 is caused by an overabundance of unsaturated fatty acids in the food and a deficiency of vitamin 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b8800"/>
                </a:solidFill>
                <a:uFillTx/>
                <a:latin typeface="Tahoma"/>
                <a:hlinkClick r:id="rId1"/>
              </a:rPr>
              <a:t>Microcytic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600" spc="-1" strike="noStrike" u="sng">
                <a:solidFill>
                  <a:srgbClr val="5b8800"/>
                </a:solidFill>
                <a:uFillTx/>
                <a:latin typeface="Tahoma"/>
                <a:hlinkClick r:id="rId2"/>
              </a:rPr>
              <a:t>anemia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s characterized by small red blood cells. The normal mean carpuscular volume (MCV), with smaller cells described as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icrocyti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nd larger cells as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crocyti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microcytic anemia, the red blood cells (erythrocytes) are usually also hypochromic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b8800"/>
                </a:solidFill>
                <a:uFillTx/>
                <a:latin typeface="Tahoma"/>
                <a:hlinkClick r:id="rId3"/>
              </a:rPr>
              <a:t>Mean corpuscular hemoglobin concentratio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MCHC), giving the amount of hemoglobin per volume of erythrocytes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emia of this category is described as "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icrocytic, hypochromic anemi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nely granular yellow-brown pigment granules composed of lipid-containing residues of lysosomal diges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19920" y="304920"/>
            <a:ext cx="8229600" cy="12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76960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ahoma"/>
              </a:rPr>
              <a:t>DISORDERS IN MINERAL NUTR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etary essential mineral de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0" y="609120"/>
            <a:ext cx="82296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1760" y="1066680"/>
            <a:ext cx="75438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he absence of a specific macro or trace mineral premix within the die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Reduced mineral bioavailability through dietary imbalanc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The availability and utilization of dietary trace elements in fish is dependent upon the dietary source and form of the element ingested, the adequacy of stores within the bod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Phosphorus bioavailability has been found to be higher in brown low-ash fish meals than in high-ash white fish mea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48320" y="380520"/>
            <a:ext cx="82296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762120"/>
            <a:ext cx="739116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ahoma"/>
              </a:rPr>
              <a:t>Dietary mineral tox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The presence of heavy metal contaminants including the accumulative elements copper, lead, cadmium, mercury, arsenic, fluoride, molybdenum and vanadium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ontamination with copper may arise from products fermented within copper lined vessels, or within pig and poultry excreta, from the use of copper based growth stimulants and anti-fungal agent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Other feed ingredients which may contain metal contaminants include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poultry waste-arsenic; paper pulp waste-lead; fish meals-mercury, selenium, arsenic, cadmium and lea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poultry by-product meals - zinc; hydrolysed feather meals - zinc; shellfish - zinc, cadmiu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seleniferous accumulating plants of the genera </a:t>
            </a:r>
            <a:r>
              <a:rPr b="0" i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Astragalus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and </a:t>
            </a:r>
            <a:r>
              <a:rPr b="0" i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Machaeranthera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, or cereals grown in seleniferous soils–seleniu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76960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Deficiency 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Bone demineralization, skeletal 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deformity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, abnormal calcification of ribs and the soft rays of the pectoral fin, cranial deformity, enlarged spongy vertebra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Decreased liver glycogen, anorexia, low carcass ash, convulsions, sluggishness, anorexia, 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muscle flaccidity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Calcinosis of kidney, increased mortality, vertebral curvature, reduced bone ash, depressed bone Ca+, Zn and Mg content in blood serum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ahoma"/>
              </a:rPr>
              <a:t>DISORDERS IN VITAMIN NUTR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 Narrow"/>
              </a:rPr>
              <a:t>Dietary vitamin defici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 Narrow"/>
              </a:rPr>
              <a:t>RIBOFLAVIN (vitamin B2) 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6600ff"/>
                </a:solidFill>
                <a:latin typeface="Arial Narrow"/>
              </a:rPr>
              <a:t>C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orneal vascularisation, cloudy lens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, snout erosion, spinal deformities, rapid opercular movement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apparent 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muscular weakness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, striated constrictions of abdominal w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photophobia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, lethargy, anaemia, nervousness, 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cataract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, fin haemorrhage, eroded barbels, pale gills and liver, sluggishne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Imp. for cellular oxidation n enzyme form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609480"/>
            <a:ext cx="7619760" cy="559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Narrow"/>
              </a:rPr>
              <a:t>PANTOTHENIC ACID :</a:t>
            </a:r>
            <a:r>
              <a:rPr b="0" lang="en-US" sz="3200" spc="-1" strike="noStrike">
                <a:solidFill>
                  <a:srgbClr val="0066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Arial Narrow"/>
              </a:rPr>
              <a:t>S</a:t>
            </a: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luggish activity, abnormal swimming behaviour, </a:t>
            </a: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Gills clubbing, mucous covered gills, pale gills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skin lesions, fragile fins, eroded barbels, rapid breathing, swelling at base of pectoral fins, dark colouratio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distended operculae, inter lamellar les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NIACIN</a:t>
            </a: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 (nicotinic acid): B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Erratic swimming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muscle spasms while resting, oedema of stomach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haemorrhage and lesions of skin/fi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deformed jaws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anaemia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loss of equilibrium, letharg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Imp for fat metabolism, tissue detox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BIOTIN</a:t>
            </a: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Blue-slime disease, lesions in the colon, muscle atrophy, spastic convulsions</a:t>
            </a: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thick gill lamellae, reduced growth and activity, depigmentation, anaemia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hypersensitivity, abnormal swimming behaviour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ahoma"/>
              </a:rPr>
              <a:t>with a population of sick or dying fish</a:t>
            </a: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Call a fish pathologis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Easy to recognize disease but </a:t>
            </a:r>
            <a:r>
              <a:rPr b="1" lang="en-US" sz="2400" spc="-1" strike="noStrike">
                <a:solidFill>
                  <a:srgbClr val="006600"/>
                </a:solidFill>
                <a:latin typeface="Arial Narrow"/>
              </a:rPr>
              <a:t>nutritionally related ‘disease’!!!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ahoma"/>
              </a:rPr>
              <a:t>THIAMINE (vitamin B1)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Nervous disorders, increased sensitivity to shock by physical blow to container or from light flashes,</a:t>
            </a: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fin haemorrhage, nervousness, fading of body colour, anorexia, ataxia, 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trunk winding syndrome,</a:t>
            </a: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light colouration, low haematocri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FOLIC ACID</a:t>
            </a: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Macrocytic normochromic anaemia</a:t>
            </a: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, poor growth, anorexia, lethargy, dark colouration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pale gills, exophthalmia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distended abdomen with ascites fluid,</a:t>
            </a: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increased mortality, lethargy, 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low haematocri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2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77724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PYRIDOXINE (vitamin B6)</a:t>
            </a: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Nervous disorders, 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oedema of peritoneal cavity,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excessive flexing of opercules, erratic and rapid swimming, greenish-blue colouration of skin, anaemia, opercule extension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, hyper-irritability, erratic swimming, muscular spasms, scale loss, abnormal pigmentation, lens opacity and blindne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Imp for breakage of protein, fat n carbohydr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ASCORBIC ACID (vitamin C)</a:t>
            </a: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Scoliosis/lordosis</a:t>
            </a: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, distorted/twisted gill filaments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poor wound repair, 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increased disease susceptibility, broken back syndrome</a:t>
            </a: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, caudal fin erosion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short operculum, short snout</a:t>
            </a:r>
            <a:r>
              <a:rPr b="0" lang="en-US" sz="3200" spc="-1" strike="noStrike">
                <a:solidFill>
                  <a:srgbClr val="0000ff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Imp for teeth, bone, cartilage n for immune system</a:t>
            </a: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2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CYANOCOBALAMIN (vitamin B1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Anorexia, reduced growth, 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fragmented erythrocytes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dark pigmentation, low haematocrit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megaloblastic anaemia</a:t>
            </a: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,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 atax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Imp for devt. of RBC</a:t>
            </a: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galoblastic anem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an anemia that results from inhibition of DNA synthesis red blood cell production. This is due to deficiency of vitamin B12 and folic acid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rge RBCs with hypersegmented neutrophil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axia : Gross lack of coordination of muscel move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INOSITOL (Myo-Inositol</a:t>
            </a: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)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Reduced growth, distended abdomen, dark colour, increased gastric emptying tim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skin and fin lesions/haemorrhag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loss of skin mucosa, anorexia, grey-white intestine</a:t>
            </a: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784836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CHOLINE:</a:t>
            </a: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o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a water-soluble </a:t>
            </a:r>
            <a:r>
              <a:rPr b="0" lang="en-US" sz="1800" spc="-1" strike="noStrike" u="sng">
                <a:solidFill>
                  <a:srgbClr val="5b8800"/>
                </a:solidFill>
                <a:uFillTx/>
                <a:latin typeface="Arial"/>
                <a:ea typeface="Arial"/>
                <a:hlinkClick r:id="rId1"/>
              </a:rPr>
              <a:t>essential nutri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It is usually grouped within the B-complex vitamins. Choline refers to the various ammonium sal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Haemorrhagic kidney and intestin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enlarged liver,</a:t>
            </a: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diffused fat vacuolation and fatty cyst formation</a:t>
            </a: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 in liv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anorexia, reduced growth, mor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grey-white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 intest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76201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VITAMIN A</a:t>
            </a: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 (Retinol)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Exophthalmia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depigmentatio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clouding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 and 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thickening of corneal epithelium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degeneration of the retina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oedema, atrophy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kidney haemorrh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Imp. for eyes &amp; b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VITAMIN D3</a:t>
            </a: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 (Cholecalciferol)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Reduced growth and feed efficiency, anorexia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     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tetany, 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elevated liver/muscle lipid content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reduced feed efficiency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low haemoglobin and hepatosomatic index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mp. for absorption of calcium n phosphorus by the body also for Bone dev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784872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goals of nutrition in prevention of disease a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Narrow"/>
              </a:rPr>
              <a:t>To optimize cellular activity and tissue/organ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Narrow"/>
              </a:rPr>
              <a:t>To reduce the metabolic burden imposed on cardiac, renal, hepatic, and musculoskeletal systems by environmental facto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Narrow"/>
              </a:rPr>
              <a:t>To support cellular defenses that protect tissue integ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457200"/>
            <a:ext cx="7620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VITAMIN E (Tocopherol)</a:t>
            </a: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Ascites, anaemia, clubbed gills, epicarditis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erythrocyte fragility, 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reduced antibody response, muscular dystrophy, exudative diathesis, depigmentation, atrophy of pancreatic tissue</a:t>
            </a: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splenic haemosiderosis, impaired red blood cell produ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Strong antioxidant, for DNA synthesis n strong RB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isceral pericardial inflam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VITAMIN K1, K2, K3:</a:t>
            </a: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Increased blood clotting time, anaemia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haemorrhagic gills, eyes, and vascular tiss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i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mp in prothrombin formation n for blood clott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92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31" name="Picture 2" descr="LiverFattyChangeHP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1600200" y="1981080"/>
            <a:ext cx="563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33"/>
                </a:solidFill>
                <a:latin typeface="Tahoma"/>
              </a:rPr>
              <a:t>NUTRITIONAL </a:t>
            </a:r>
            <a:br>
              <a:rPr sz="4400"/>
            </a:br>
            <a:r>
              <a:rPr b="1" i="1" lang="en-US" sz="4400" spc="-1" strike="noStrike">
                <a:solidFill>
                  <a:srgbClr val="990033"/>
                </a:solidFill>
                <a:latin typeface="Tahoma"/>
              </a:rPr>
              <a:t>PATHOLOG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ahoma"/>
              </a:rPr>
              <a:t>Toxicity and the Liver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t is caused by a build-up of fats in the liver, which replace healthy tissue and trigger enlargement of the rest of the liver cell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atty liver disease is also known as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eatosi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 A fatty liver that is associated with inflammation is called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eatohepatiti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s fat is actually composed of a particular type of fat (triglyceride) that accumulates in tiny sacs within the liver cel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s accumulation of fat in liver cells is not the same as the fat cells (adipocytes) that constitute body fat.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atty liver is a harmless in the beginning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762120"/>
            <a:ext cx="8001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Fatt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ver is enlarged but is asymptoma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ce fats account for about 10 per cent of the liver’s weight, changes can be notic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nges are reversi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lammation &amp; necrosis starts if not controll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patocellular necrosis with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Mallory bod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M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entral 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  <a:ea typeface="Arial"/>
              </a:rPr>
              <a:t>hya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clerosis (CHS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nown to be a precursor of cirrhosis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y are highly eosinophilic and thus appear pink on H&amp;E stain. The bodies themselves are made up of intermediate keratin filament protein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S : The known consequences of the disease are hypoxia, delayed perfusion and iron deposits in the blood vessel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Steatosis to steatohepatitis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irrho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patocellular necrosis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nflammatory cells destroys the liver cel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patit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inflammation in the liv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atonecrosis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stroyed liver cel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atohepatitis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ltimately leads to scarring of the liver (fibrosis) and then irreversible, advanced scarring (cirrhosis). Cirrhosis is the last and most severe stage in the fatty liver tissue 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762120" y="609480"/>
            <a:ext cx="7467480" cy="58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ells of the liver are gradually replaced by scar tissue (fibrosis) , which hampers liver funct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irrhosis is one of the most common causes of liver failure and may be life threatening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cronodular cirrhosis-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runken nodular liver with uniform small nodules.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rahepatic biliary tract obstruct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olestasis- 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cumulation of bile in the liver when there is hepatocyte injury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olecystitis 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flammation &amp; fibrosis of the gallbladder, usually containing gallst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7620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Potential pathophysiological mechanisms include the following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 Increased endogenous fatty acid synthesis or enhanced delivery of fatty acids to the 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2) Deficient incorporation or export of triglycerides as very low-density lipoprote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3) Oxidation of fatty acids by mitochondria is decre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4) Acetaldehyde forms adducts with tubulin and impairs function of microtubules, resulting in decreased transport of lipoproteins from the 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Picture 5" descr="LIVER003"/>
          <p:cNvPicPr/>
          <p:nvPr/>
        </p:nvPicPr>
        <p:blipFill>
          <a:blip r:embed="rId1"/>
          <a:stretch/>
        </p:blipFill>
        <p:spPr>
          <a:xfrm>
            <a:off x="1447920" y="1066680"/>
            <a:ext cx="66294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48" name="Picture 4" descr="n liver 1"/>
          <p:cNvPicPr/>
          <p:nvPr/>
        </p:nvPicPr>
        <p:blipFill>
          <a:blip r:embed="rId1"/>
          <a:stretch/>
        </p:blipFill>
        <p:spPr>
          <a:xfrm>
            <a:off x="1371600" y="1050840"/>
            <a:ext cx="65530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0773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ctors affecting the feeding rates of fis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 Narrow"/>
              </a:rPr>
              <a:t>1) Time of day, season, water temperature, dissolved oxygen levels, and other water quality varia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 Narrow"/>
              </a:rPr>
              <a:t>2) Feeding fish early in the morning when the lowest dissolved oxygen levels occur is 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not advisabl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Arial Narrow"/>
              </a:rPr>
              <a:t>3) In recirculating aquaculture systems where oxygen is continuously supplied, fish can be fed at any time. </a:t>
            </a:r>
            <a:r>
              <a:rPr b="0" lang="en-US" sz="2400" spc="-1" strike="noStrike">
                <a:solidFill>
                  <a:srgbClr val="0033cc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50" name="Picture 4" descr="n liver"/>
          <p:cNvPicPr/>
          <p:nvPr/>
        </p:nvPicPr>
        <p:blipFill>
          <a:blip r:embed="rId1"/>
          <a:stretch/>
        </p:blipFill>
        <p:spPr>
          <a:xfrm>
            <a:off x="1371600" y="993600"/>
            <a:ext cx="655308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52" name="Picture 4" descr="LiverFattyChangeLP"/>
          <p:cNvPicPr/>
          <p:nvPr/>
        </p:nvPicPr>
        <p:blipFill>
          <a:blip r:embed="rId1"/>
          <a:stretch/>
        </p:blipFill>
        <p:spPr>
          <a:xfrm>
            <a:off x="1447920" y="1120680"/>
            <a:ext cx="640080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Picture 5" descr="LIVER006"/>
          <p:cNvPicPr/>
          <p:nvPr/>
        </p:nvPicPr>
        <p:blipFill>
          <a:blip r:embed="rId1"/>
          <a:stretch/>
        </p:blipFill>
        <p:spPr>
          <a:xfrm>
            <a:off x="1447920" y="1274760"/>
            <a:ext cx="625464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57" name="Picture 4" descr="LiverFattyChangeHP"/>
          <p:cNvPicPr/>
          <p:nvPr/>
        </p:nvPicPr>
        <p:blipFill>
          <a:blip r:embed="rId1"/>
          <a:stretch/>
        </p:blipFill>
        <p:spPr>
          <a:xfrm>
            <a:off x="1413000" y="1143000"/>
            <a:ext cx="635940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Picture 5" descr="LIVER145"/>
          <p:cNvPicPr/>
          <p:nvPr/>
        </p:nvPicPr>
        <p:blipFill>
          <a:blip r:embed="rId1"/>
          <a:stretch/>
        </p:blipFill>
        <p:spPr>
          <a:xfrm>
            <a:off x="304920" y="76212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5" descr="LIVER007"/>
          <p:cNvPicPr/>
          <p:nvPr/>
        </p:nvPicPr>
        <p:blipFill>
          <a:blip r:embed="rId1"/>
          <a:stretch/>
        </p:blipFill>
        <p:spPr>
          <a:xfrm>
            <a:off x="1252440" y="1143000"/>
            <a:ext cx="667224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5" descr="LIVER015"/>
          <p:cNvPicPr/>
          <p:nvPr/>
        </p:nvPicPr>
        <p:blipFill>
          <a:blip r:embed="rId1"/>
          <a:stretch/>
        </p:blipFill>
        <p:spPr>
          <a:xfrm>
            <a:off x="1523880" y="1266840"/>
            <a:ext cx="624852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68" name="Picture 4" descr="fatty liver1"/>
          <p:cNvPicPr/>
          <p:nvPr/>
        </p:nvPicPr>
        <p:blipFill>
          <a:blip r:embed="rId1"/>
          <a:stretch/>
        </p:blipFill>
        <p:spPr>
          <a:xfrm>
            <a:off x="1523880" y="1231920"/>
            <a:ext cx="647712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2130480" y="1981080"/>
            <a:ext cx="40910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4343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2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001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4)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 Narrow"/>
              </a:rPr>
              <a:t>During the winter and at low water temperatures, feeding rates of warm water fishes in ponds decli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33cc"/>
                </a:solidFill>
                <a:latin typeface="Arial Narrow"/>
              </a:rPr>
              <a:t>5) Feed acceptability, palatability and digestibility vary with the ingredients and feed qualit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33cc"/>
                </a:solidFill>
                <a:latin typeface="Arial Narrow"/>
              </a:rPr>
              <a:t>6) Imp. to pay careful attention to feeding activity in order to help determine feed acceptance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Arial Narrow"/>
              </a:rPr>
              <a:t>Calculate feed conversion ratios and feed efficiencies, monitor feed costs, and track feed demand throughout the yea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Picture 5" descr="LIVER017"/>
          <p:cNvPicPr/>
          <p:nvPr/>
        </p:nvPicPr>
        <p:blipFill>
          <a:blip r:embed="rId1"/>
          <a:stretch/>
        </p:blipFill>
        <p:spPr>
          <a:xfrm>
            <a:off x="1219320" y="1054080"/>
            <a:ext cx="6858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5" descr="LIVER018"/>
          <p:cNvPicPr/>
          <p:nvPr/>
        </p:nvPicPr>
        <p:blipFill>
          <a:blip r:embed="rId1"/>
          <a:stretch/>
        </p:blipFill>
        <p:spPr>
          <a:xfrm>
            <a:off x="1523880" y="1022400"/>
            <a:ext cx="647712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Picture 5" descr="LIVER020"/>
          <p:cNvPicPr/>
          <p:nvPr/>
        </p:nvPicPr>
        <p:blipFill>
          <a:blip r:embed="rId1"/>
          <a:stretch/>
        </p:blipFill>
        <p:spPr>
          <a:xfrm>
            <a:off x="1143000" y="1031760"/>
            <a:ext cx="685800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83" name="Picture 4" descr="AlcoholicHyaline"/>
          <p:cNvPicPr/>
          <p:nvPr/>
        </p:nvPicPr>
        <p:blipFill>
          <a:blip r:embed="rId1"/>
          <a:stretch/>
        </p:blipFill>
        <p:spPr>
          <a:xfrm>
            <a:off x="1353960" y="1143000"/>
            <a:ext cx="679932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85" name="Picture 4" descr="fibro-inflammatory response"/>
          <p:cNvPicPr/>
          <p:nvPr/>
        </p:nvPicPr>
        <p:blipFill>
          <a:blip r:embed="rId1"/>
          <a:stretch/>
        </p:blipFill>
        <p:spPr>
          <a:xfrm>
            <a:off x="1066680" y="1143000"/>
            <a:ext cx="670572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187" name="Picture 4" descr="Cirhossis"/>
          <p:cNvPicPr/>
          <p:nvPr/>
        </p:nvPicPr>
        <p:blipFill>
          <a:blip r:embed="rId1"/>
          <a:stretch/>
        </p:blipFill>
        <p:spPr>
          <a:xfrm>
            <a:off x="1143000" y="1020600"/>
            <a:ext cx="6553080" cy="46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Picture 5" descr="LIVER079"/>
          <p:cNvPicPr/>
          <p:nvPr/>
        </p:nvPicPr>
        <p:blipFill>
          <a:blip r:embed="rId1"/>
          <a:stretch/>
        </p:blipFill>
        <p:spPr>
          <a:xfrm>
            <a:off x="1447920" y="1179360"/>
            <a:ext cx="640080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Picture 5" descr="LIVER014"/>
          <p:cNvPicPr/>
          <p:nvPr/>
        </p:nvPicPr>
        <p:blipFill>
          <a:blip r:embed="rId1"/>
          <a:stretch/>
        </p:blipFill>
        <p:spPr>
          <a:xfrm>
            <a:off x="1600200" y="1084320"/>
            <a:ext cx="64008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5" descr="LIVER063"/>
          <p:cNvPicPr/>
          <p:nvPr/>
        </p:nvPicPr>
        <p:blipFill>
          <a:blip r:embed="rId1"/>
          <a:stretch/>
        </p:blipFill>
        <p:spPr>
          <a:xfrm>
            <a:off x="1295280" y="1066680"/>
            <a:ext cx="64008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Picture 5" descr="LIVER040"/>
          <p:cNvPicPr/>
          <p:nvPr/>
        </p:nvPicPr>
        <p:blipFill>
          <a:blip r:embed="rId1"/>
          <a:stretch/>
        </p:blipFill>
        <p:spPr>
          <a:xfrm>
            <a:off x="1143000" y="1219320"/>
            <a:ext cx="67676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837720"/>
            <a:ext cx="8001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eed Conversion and Efficiency Calculation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 Narrow"/>
              </a:rPr>
              <a:t>Feed conversion ratio</a:t>
            </a:r>
            <a:r>
              <a:rPr b="0" lang="en-US" sz="2400" spc="-1" strike="noStrike">
                <a:solidFill>
                  <a:srgbClr val="ff00ff"/>
                </a:solidFill>
                <a:latin typeface="Arial Narrow"/>
              </a:rPr>
              <a:t> (FCR) or </a:t>
            </a:r>
            <a:r>
              <a:rPr b="1" lang="en-US" sz="2400" spc="-1" strike="noStrike">
                <a:solidFill>
                  <a:srgbClr val="ff00ff"/>
                </a:solidFill>
                <a:latin typeface="Arial Narrow"/>
              </a:rPr>
              <a:t>feed efficiency</a:t>
            </a:r>
            <a:r>
              <a:rPr b="0" lang="en-US" sz="2400" spc="-1" strike="noStrike">
                <a:solidFill>
                  <a:srgbClr val="ff00ff"/>
                </a:solidFill>
                <a:latin typeface="Arial Narrow"/>
              </a:rPr>
              <a:t> (FE) are important calcul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 Narrow"/>
              </a:rPr>
              <a:t>FCR =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 Narrow"/>
              </a:rPr>
              <a:t>weight of the feed fed to the f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          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weight of fish grow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 Narrow"/>
              </a:rPr>
              <a:t>*If fish are fed 10 pounds of feed and then exhibit a 5 pound weight gain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 Narrow"/>
              </a:rPr>
              <a:t>   </a:t>
            </a:r>
            <a:r>
              <a:rPr b="0" lang="en-US" sz="2000" spc="-1" strike="noStrike">
                <a:solidFill>
                  <a:srgbClr val="ff00ff"/>
                </a:solidFill>
                <a:latin typeface="Arial Narrow"/>
              </a:rPr>
              <a:t>the FCR is 10/ 5 = 2.0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*FCRs of 1.5-2.0 are considered good growth for most spec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Picture 5" descr="LIVER076"/>
          <p:cNvPicPr/>
          <p:nvPr/>
        </p:nvPicPr>
        <p:blipFill>
          <a:blip r:embed="rId1"/>
          <a:stretch/>
        </p:blipFill>
        <p:spPr>
          <a:xfrm>
            <a:off x="1523880" y="1219320"/>
            <a:ext cx="6553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05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204" name="Picture 4" descr="normal liver"/>
          <p:cNvPicPr/>
          <p:nvPr/>
        </p:nvPicPr>
        <p:blipFill>
          <a:blip r:embed="rId1"/>
          <a:stretch/>
        </p:blipFill>
        <p:spPr>
          <a:xfrm>
            <a:off x="0" y="0"/>
            <a:ext cx="4495680" cy="3352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fatty liver"/>
          <p:cNvPicPr/>
          <p:nvPr/>
        </p:nvPicPr>
        <p:blipFill>
          <a:blip r:embed="rId2"/>
          <a:stretch/>
        </p:blipFill>
        <p:spPr>
          <a:xfrm>
            <a:off x="4648320" y="0"/>
            <a:ext cx="4343400" cy="3276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LIVER074"/>
          <p:cNvPicPr/>
          <p:nvPr/>
        </p:nvPicPr>
        <p:blipFill>
          <a:blip r:embed="rId3"/>
          <a:stretch/>
        </p:blipFill>
        <p:spPr>
          <a:xfrm>
            <a:off x="2286000" y="3429000"/>
            <a:ext cx="480060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208" name="Picture 5" descr="LIVER009"/>
          <p:cNvPicPr/>
          <p:nvPr/>
        </p:nvPicPr>
        <p:blipFill>
          <a:blip r:embed="rId1"/>
          <a:stretch/>
        </p:blipFill>
        <p:spPr>
          <a:xfrm>
            <a:off x="4648320" y="838080"/>
            <a:ext cx="4343400" cy="4067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LIVER008"/>
          <p:cNvPicPr/>
          <p:nvPr/>
        </p:nvPicPr>
        <p:blipFill>
          <a:blip r:embed="rId2"/>
          <a:stretch/>
        </p:blipFill>
        <p:spPr>
          <a:xfrm>
            <a:off x="0" y="838080"/>
            <a:ext cx="44956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Picture 7" descr="LIVER025"/>
          <p:cNvPicPr/>
          <p:nvPr/>
        </p:nvPicPr>
        <p:blipFill>
          <a:blip r:embed="rId1"/>
          <a:stretch/>
        </p:blipFill>
        <p:spPr>
          <a:xfrm>
            <a:off x="1023840" y="2590920"/>
            <a:ext cx="7053480" cy="3886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LIVER058"/>
          <p:cNvPicPr/>
          <p:nvPr/>
        </p:nvPicPr>
        <p:blipFill>
          <a:blip r:embed="rId2"/>
          <a:stretch/>
        </p:blipFill>
        <p:spPr>
          <a:xfrm>
            <a:off x="1981080" y="152280"/>
            <a:ext cx="5410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6" name="Picture 7" descr="LIVER029"/>
          <p:cNvPicPr/>
          <p:nvPr/>
        </p:nvPicPr>
        <p:blipFill>
          <a:blip r:embed="rId1"/>
          <a:stretch/>
        </p:blipFill>
        <p:spPr>
          <a:xfrm>
            <a:off x="1523880" y="304920"/>
            <a:ext cx="6172200" cy="2970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LIVER030"/>
          <p:cNvPicPr/>
          <p:nvPr/>
        </p:nvPicPr>
        <p:blipFill>
          <a:blip r:embed="rId2"/>
          <a:stretch/>
        </p:blipFill>
        <p:spPr>
          <a:xfrm>
            <a:off x="1523880" y="3505320"/>
            <a:ext cx="624852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0" name="Picture 4" descr="whirling disease"/>
          <p:cNvPicPr/>
          <p:nvPr/>
        </p:nvPicPr>
        <p:blipFill>
          <a:blip r:embed="rId1"/>
          <a:stretch/>
        </p:blipFill>
        <p:spPr>
          <a:xfrm>
            <a:off x="2438280" y="1828800"/>
            <a:ext cx="4800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533160"/>
            <a:ext cx="78483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The goals of nutrition in prevention of disease a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 Narrow"/>
              </a:rPr>
              <a:t>To optimize cellular activity and tissue/organ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vide sufficient supplies to meet continuous deman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aintain adequate reserves for intermittent increased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 Narrow"/>
              </a:rPr>
              <a:t>To reduce the metabolic burden imposed on cardiac, pulmonary, renal, hepatic, and musculoskeletal systems by environmental facto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inimize workload of organ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liminate compensatory responses required to maintain normal fun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 Narrow"/>
              </a:rPr>
              <a:t>To support cellular defenses that protect tissue integ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aintain immunocompet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mote detoxification of chemical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event oxidative dam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Nutritional pathologies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Narrow"/>
              </a:rPr>
              <a:t>Food Safe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dd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tamina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 Narrow"/>
              </a:rPr>
              <a:t>Nutritional Defici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Vitami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iner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ssential amino ac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Narrow"/>
              </a:rPr>
              <a:t>Diet and Dise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27f4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DISORDERS IN PROTEIN NUTRITION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663300"/>
                </a:solidFill>
                <a:latin typeface="Arial Narrow"/>
              </a:rPr>
              <a:t>Dietary essential amino acid deficiency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sh displays reduced growth when fed essential amino acid (EAA) deficient diets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’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P</cp:lastModifiedBy>
  <dcterms:modified xsi:type="dcterms:W3CDTF">2020-05-24T14:24:03Z</dcterms:modified>
  <cp:revision>1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