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png" ContentType="image/png"/>
  <Override PartName="/ppt/media/image19.wmf" ContentType="image/x-wmf"/>
  <Override PartName="/ppt/media/image17.png" ContentType="image/png"/>
  <Override PartName="/ppt/media/image32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24.png" ContentType="image/png"/>
  <Override PartName="/ppt/media/image1.png" ContentType="image/png"/>
  <Override PartName="/ppt/media/image3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41.wmf" ContentType="image/x-wmf"/>
  <Override PartName="/ppt/media/image30.jpeg" ContentType="image/jpeg"/>
  <Override PartName="/ppt/media/image37.wmf" ContentType="image/x-wmf"/>
  <Override PartName="/ppt/media/image33.jpeg" ContentType="image/jpeg"/>
  <Override PartName="/ppt/media/image27.jpeg" ContentType="image/jpeg"/>
  <Override PartName="/ppt/media/image28.wmf" ContentType="image/x-wmf"/>
  <Override PartName="/ppt/media/image5.png" ContentType="image/png"/>
  <Override PartName="/ppt/media/image35.png" ContentType="image/png"/>
  <Override PartName="/ppt/media/image34.wmf" ContentType="image/x-wmf"/>
  <Override PartName="/ppt/media/image39.wmf" ContentType="image/x-wmf"/>
  <Override PartName="/ppt/media/image9.wmf" ContentType="image/x-wmf"/>
  <Override PartName="/ppt/media/image36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40.wmf" ContentType="image/x-wmf"/>
  <Override PartName="/ppt/media/image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4.jpeg" ContentType="image/jpeg"/>
  <Override PartName="/ppt/media/image38.wmf" ContentType="image/x-wmf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7062-D5C3-4452-AF31-846118E2CE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D930-07E3-4A8B-B8C3-ECC054E0D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81DB-60CD-463D-89DF-E4190E114B34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4B8B-C851-452C-867C-6A314F4747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B711-DEF3-45E4-93C1-5DB2B831AF52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4063-69C4-4C9D-B714-4B7D849D65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D6D2-B882-4FE8-9FF0-9C9481331C98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4C80-FD9A-4D11-9AEB-EE928CC0BB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74BF-B10A-4E14-9C65-0D3CA8689E6A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BC29-DFB2-45A2-8CD1-FFE234D2B2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154-CCF5-4C0C-8DD3-B1B53129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6A9-44C2-41E0-AD02-E05CE735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5950-97F8-41FB-9907-9B31C9C1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02D3-3166-4BC0-85E4-7FDC6229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44BC-3A1E-421F-B7A5-EF143DAD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3675-391A-4051-8BF2-35C5D1A2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D6D3-6A17-4678-A3A7-C15E5355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5432-5224-4A57-B98D-A470F9C1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78AE-7B99-4893-AE3D-492DD921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A4A1-67A4-42F0-80DD-0212026C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4926-8E49-40AC-86AF-E69BD066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C718-8107-434E-B587-3AE3159A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0A12-DC99-401A-ABF0-A77C5CF2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D069-1873-4F46-9A5E-957DE887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CCB3-A3E7-4997-954A-A91547E0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7436-FE12-4D2E-A929-0F6BFA22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7159-4083-40EA-B84E-1EC0A5A7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789-1B78-4821-BAB6-78E138F7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3F5-6A2C-4FCF-B97D-B2E9782F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C914-9DCE-4134-B4F2-8E7914A2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228E-62DA-4EAF-910E-CEA98B84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8C8-A005-411F-8932-8E852F14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4025-77CE-41C7-A751-9C2CF622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3021-D664-48D3-A071-E15FF5D4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3601-8426-4F30-B8C5-6AF95C33516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09F0-F71A-4454-8404-ED3EAF9695B5}" type="slidenum">
              <a:rPr b="1" lang="en-US" sz="26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14F9-B939-4375-A559-4CDDED2E83C8}" type="datetime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2CC3-292B-426F-A734-4FB5CF11B3EA}" type="slidenum">
              <a:rPr b="1" lang="en-US" sz="26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9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1D99-C370-4F29-9BA3-AA51A9BC07A4}" type="datetime">
              <a:rPr b="0" lang="en-US" sz="1400" spc="-1" strike="noStrike">
                <a:solidFill>
                  <a:srgbClr val="660033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7632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A3CB-5F2A-451B-9A20-0781FAEE5E7C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47960" y="1142640"/>
            <a:ext cx="4470120" cy="243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Taenia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Cysticerc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3FAF-AF97-4FD5-9B0D-FA53E6888DC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5B90-13B7-4D05-9D27-CE6120E255EB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114800" cy="44956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ngitudinal rectangl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sterior body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st parts of repro sys rudiment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large, branched uterus filled with eg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ranch each side  7-13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dth&lt;leng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781680" y="22860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6858000" y="4648320"/>
            <a:ext cx="2362320" cy="2209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3"/>
          <a:srcRect l="0" t="0" r="0" b="44378"/>
          <a:stretch/>
        </p:blipFill>
        <p:spPr>
          <a:xfrm>
            <a:off x="4952880" y="2362320"/>
            <a:ext cx="1866960" cy="44956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1905120" y="1663560"/>
            <a:ext cx="4267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Gravid proglott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4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5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772C-1C67-41D5-9D71-F8EAF7F5F0A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9F2B-109B-4DA0-8919-5CE5B5DA5AD8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  <a:ea typeface="宋体"/>
              </a:rPr>
              <a:t>EG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9" descr=""/>
          <p:cNvPicPr/>
          <p:nvPr/>
        </p:nvPicPr>
        <p:blipFill>
          <a:blip r:embed="rId1"/>
          <a:srcRect l="36390" t="12617" r="3343" b="12617"/>
          <a:stretch/>
        </p:blipFill>
        <p:spPr>
          <a:xfrm>
            <a:off x="6019920" y="457200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5257800" cy="4572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/>
          <p:cNvPicPr/>
          <p:nvPr/>
        </p:nvPicPr>
        <p:blipFill>
          <a:blip r:embed="rId3"/>
          <a:stretch/>
        </p:blipFill>
        <p:spPr>
          <a:xfrm>
            <a:off x="6019920" y="228600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4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"/>
          <p:cNvPicPr/>
          <p:nvPr/>
        </p:nvPicPr>
        <p:blipFill>
          <a:blip r:embed="rId5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A279-E137-482B-A928-0451795817D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7A3F-5137-41C5-9D25-C2DA696797D9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LIFE CYC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rcRect l="0" t="8475" r="0" b="0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57240">
            <a:solidFill>
              <a:srgbClr val="00ff00"/>
            </a:solidFill>
            <a:prstDash val="dash"/>
            <a:miter/>
          </a:ln>
        </p:spPr>
      </p:pic>
      <p:sp>
        <p:nvSpPr>
          <p:cNvPr id="188" name="Rectangle 4"/>
          <p:cNvSpPr/>
          <p:nvPr/>
        </p:nvSpPr>
        <p:spPr>
          <a:xfrm>
            <a:off x="4648320" y="6324480"/>
            <a:ext cx="449568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nkey, wild boar, camel, dog, cat, fox and rod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315200" y="2286000"/>
            <a:ext cx="18288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uzoonosis 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fect zoono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762120" y="2286000"/>
            <a:ext cx="12952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bliga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yclozoono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918360" y="5815080"/>
            <a:ext cx="226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Porcine cysticerco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2822040" y="261468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aenia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2819520" y="35053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Hum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cysticerco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12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3A9A-A559-4411-AE0C-E2E6C430304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AAE0-974C-4DED-858F-30B55612725C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Global distribution of </a:t>
            </a:r>
            <a:r>
              <a:rPr b="1" i="1" lang="en-US" sz="2800" spc="-1" strike="noStrike">
                <a:solidFill>
                  <a:srgbClr val="006699"/>
                </a:solidFill>
                <a:latin typeface="Arial"/>
              </a:rPr>
              <a:t>T. solium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ysticercosis &amp; taenios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rcRect l="0" t="10718" r="0" b="0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57240">
            <a:solidFill>
              <a:srgbClr val="00ff00"/>
            </a:solidFill>
            <a:prstDash val="dash"/>
            <a:miter/>
          </a:ln>
        </p:spPr>
      </p:pic>
      <p:pic>
        <p:nvPicPr>
          <p:cNvPr id="200" name="Picture 6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BD0B-F1CD-4BBB-BAF8-DDEBF873913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FACE-CB25-4262-B104-0CB5CCA97BED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Geographical distribution of cysticercosis &amp; taeniosis </a:t>
            </a:r>
            <a:r>
              <a:rPr b="1" i="1" lang="en-US" sz="2800" spc="-1" strike="noStrike">
                <a:solidFill>
                  <a:srgbClr val="006699"/>
                </a:solidFill>
                <a:latin typeface="Arial"/>
              </a:rPr>
              <a:t>T. solium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in Ind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rcRect l="0" t="5082" r="0" b="0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57240">
            <a:solidFill>
              <a:srgbClr val="00ff00"/>
            </a:solidFill>
            <a:prstDash val="dash"/>
            <a:miter/>
          </a:ln>
        </p:spPr>
      </p:pic>
      <p:sp>
        <p:nvSpPr>
          <p:cNvPr id="206" name="Rectangle 5"/>
          <p:cNvSpPr/>
          <p:nvPr/>
        </p:nvSpPr>
        <p:spPr>
          <a:xfrm>
            <a:off x="3581280" y="2286000"/>
            <a:ext cx="1828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861B-E63D-4F5F-BBBE-F5F5001231E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F796-3F68-4807-95D4-194CB0F5C8FA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Arial"/>
                <a:ea typeface="宋体"/>
              </a:rPr>
              <a:t>Clinical Manifestatio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aenia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ysticercosis: 3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cular/ Subcutaneous cysticerc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ular cysticerc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uro cysticercosis (NCC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A706-F3E6-44D6-8E57-85B3CA29BDA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968C-8668-4BEB-B80F-322FC5C76561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PORCINE CYSTICERCO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dge anywhere in body of pig, most commonly in muscle &amp; s/c fa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rely associated with sympt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CC in naturally infected swine showed excessive salivation, blinking and tea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degenerative s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3E7D-4D22-4184-8246-3A0BFCC0E15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3D65-671F-4924-989A-84F736DA02CA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hetero infection: eggs in contaminated f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exogenous autoinfection: Ano-oral contamin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endogenous autoinfection: Reverse peristals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arval stage infests different tissues skeletal muscle, diaphragm, heart, peritoneum, pleura &amp; subcutaneous tissue (Shanka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t 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4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HUMAN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YSTICERCOS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DBD7-442A-47DF-9F08-4F69AB143B8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B4D7-8188-4122-A5B3-E1129ACEA447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4419360" cy="44956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st prevalent type, but in India with high prevalence as 1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cle cysticercosis cause pain &amp; hypertrophy &amp; dead &amp; calcified cy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ually found in head, limbs, neck, abdomen &amp; bac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vable &amp; painl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740880" y="1854360"/>
            <a:ext cx="68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Muscular / Subcutaneous Cysticerc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3962520" cy="1990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3962520" cy="2590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3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4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ADA1-7F49-4FD4-86E6-74FEA2B9254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87F0-400C-44C7-8683-504E45DB74CA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4114800" cy="44956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emly ra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5% prevalence in some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und in vitreous body or subretin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ptosis, diplopia, visual disturb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ed body of worm may provokes local inflam. causing blind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4876920" y="4572000"/>
            <a:ext cx="4267080" cy="2286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4876920" y="2362320"/>
            <a:ext cx="4267080" cy="22096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7"/>
          <p:cNvSpPr/>
          <p:nvPr/>
        </p:nvSpPr>
        <p:spPr>
          <a:xfrm>
            <a:off x="1904760" y="1893960"/>
            <a:ext cx="4153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  <a:ea typeface="宋体"/>
              </a:rPr>
              <a:t>Ocular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ysticerc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8" descr=""/>
          <p:cNvPicPr/>
          <p:nvPr/>
        </p:nvPicPr>
        <p:blipFill>
          <a:blip r:embed="rId3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"/>
          <p:cNvPicPr/>
          <p:nvPr/>
        </p:nvPicPr>
        <p:blipFill>
          <a:blip r:embed="rId4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5EB8-C1BE-4413-923A-1BE12059B93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63D3-0E0F-4B15-A227-7D89C0865325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eniosis (Greek: Tainia means bend, ribbon or tape-like structure-tape-worm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onfatal intestinal infection of human caused by adult cyclophyllidean cestodes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enia sagin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oli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vae (Cysticercus, cyst or bladderworm) affects many spp of animals &amp; man &amp; produce a disease K/A Cysticeco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 meat borne obligatory cyclo anthropozoonotic helmintho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sticercosis designated as a “biological marker” of  social &amp; economic development of a commun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9999-EF31-40DC-AC47-3AFFBDEC0FE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0CAB-6C98-45C4-A223-0BEEB2F9CC6F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4572000" cy="4495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prevalent &amp; dangerous fo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ymptoms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aches, nausea, vomiting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urred vision, neurologic chang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ute confusion, ↑ IC pressur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cal neurologic deficit, intellectual defic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ilepsy (70% cas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3886200" cy="45720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5"/>
          <p:cNvSpPr/>
          <p:nvPr/>
        </p:nvSpPr>
        <p:spPr>
          <a:xfrm>
            <a:off x="1903320" y="1808280"/>
            <a:ext cx="519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eurocysticercosis (NC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F448-FA50-4DDD-A2DD-AAEF16B447F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4225-1E6B-4219-9D94-D938E8522E5F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FORM OF NC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stages of development &amp; regression of  cysticercus in C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Cystic or vesicular stag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able &amp; composed of well-defined, fluid-filled membrane, contain scolex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Degenerating, colloid or granular stag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sponds to parasite necrosis &amp; inflam proces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ear as eosinophilic structures contain components of bladder &amp; disintegrated scolex &amp; tissue  surrounded by multinuclear giant cells, foamy macrophages &amp; neutrophils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626A-FD33-48C2-97E6-D18B1482387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4BFE-03C9-4270-9BCA-350E5775BA67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Nodular sta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brosis develops recognized as a nodule of smaller size than the bladd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Mineralization &amp; calcification stag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 dystrophic calcification of necrotic larva or presence of cysticercal calcareous corpus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298A-BF73-4DBC-9411-E07F497E2F0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AF27-60B1-41A6-BD24-BA1311AA888E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cc"/>
                </a:solidFill>
                <a:latin typeface="Arial"/>
              </a:rPr>
              <a:t>Taenia sagina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wide zoonotic cesto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ef / unarmed tapewo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vae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ysticercus bov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n cattle (IH) musculature; bovine cysticercos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ult worms in human (DH) SI; taenia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x 50 million cases of infestation worldwide &amp; 50,000 deaths (human) annu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losses in cattle production due to downgrading &amp;/or condemnation of carcasses as untreated infected meat an important source of zoonos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EA2D-9B7D-497F-BE52-F9927059627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472C-C2AC-4116-B169-F0CAF3CD928E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17200" y="1084320"/>
            <a:ext cx="7813800" cy="76536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  <a:ea typeface="宋体"/>
              </a:rPr>
              <a:t>Biological differences between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  <a:ea typeface="宋体"/>
              </a:rPr>
              <a:t>T. solium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  <a:ea typeface="宋体"/>
              </a:rPr>
              <a:t> and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  <a:ea typeface="宋体"/>
              </a:rPr>
              <a:t>T. sagin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838080" y="2362320"/>
          <a:ext cx="8305920" cy="44956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ul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a50021"/>
                          </a:solidFill>
                          <a:latin typeface="Arial"/>
                          <a:ea typeface="宋体"/>
                        </a:rPr>
                        <a:t>T. soli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800000"/>
                          </a:solidFill>
                          <a:latin typeface="Arial"/>
                          <a:ea typeface="宋体"/>
                        </a:rPr>
                        <a:t>T. sagina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engt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  <a:ea typeface="宋体"/>
                        </a:rPr>
                        <a:t>2-7 me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宋体"/>
                        </a:rPr>
                        <a:t>5- 12 (24) met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cole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  <a:ea typeface="宋体"/>
                        </a:rPr>
                        <a:t>1 mm in diameter with 4 suckers, 1 rostellum &amp; 22- 36 hooklets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宋体"/>
                        </a:rPr>
                        <a:t>2 mm in diameter, with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宋体"/>
                        </a:rPr>
                        <a:t>4 suckers but no rostellum &amp; hooklet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umber of seg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  <a:ea typeface="宋体"/>
                        </a:rPr>
                        <a:t>700 to 1000 (&lt; 1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宋体"/>
                        </a:rPr>
                        <a:t>1000 to 2000 (~ 2000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ature proglott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  <a:ea typeface="宋体"/>
                        </a:rPr>
                        <a:t>3 lobes of ov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宋体"/>
                        </a:rPr>
                        <a:t>2 lobes of ov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ravid proglott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  <a:ea typeface="宋体"/>
                        </a:rPr>
                        <a:t>7-13 uterine lateral branches on one sid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宋体"/>
                        </a:rPr>
                        <a:t>15-30 uterine lateral branches on one si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F1D0-CD38-443A-A9BB-57ADF86C782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B385-5FDB-4746-B36C-D75958C0259F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38080" y="2362320"/>
          <a:ext cx="8305920" cy="44845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51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ult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a50021"/>
                          </a:solidFill>
                          <a:latin typeface="Arial"/>
                          <a:ea typeface="宋体"/>
                        </a:rPr>
                        <a:t>T. soliu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800000"/>
                          </a:solidFill>
                          <a:latin typeface="Arial"/>
                          <a:ea typeface="宋体"/>
                        </a:rPr>
                        <a:t>T. sagina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. of gravid proglottid detache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Several seg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Single seg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79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ode of proglottids passing o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Passively expell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Actively migrate out of an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ysticerc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Scolex with hooklet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in man &amp; pig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No hooklets on scolex only in catt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ease in m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Taeniasis &amp; Cysticerco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Taenia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g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  <a:ea typeface="宋体"/>
                        </a:rPr>
                        <a:t>Spherical, 31- 43 µm diameter, thick radially striated brown embryophore. oncosphere with 6 hookle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76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4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F1B0-0ADE-459F-A42B-5DF8EA25FED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8A92-9EF6-447B-A873-0AB8BE925025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  <a:ea typeface="宋体"/>
              </a:rPr>
              <a:t>Body length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5320" cy="449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  <a:ea typeface="宋体"/>
              </a:rPr>
              <a:t>T. sol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56320" y="2362320"/>
            <a:ext cx="3774960" cy="4495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33"/>
                </a:solidFill>
                <a:latin typeface="Arial"/>
              </a:rPr>
              <a:t>T. sagi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7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733920" cy="40384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3810240" cy="4038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"/>
          <p:cNvPicPr/>
          <p:nvPr/>
        </p:nvPicPr>
        <p:blipFill>
          <a:blip r:embed="rId3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"/>
          <p:cNvPicPr/>
          <p:nvPr/>
        </p:nvPicPr>
        <p:blipFill>
          <a:blip r:embed="rId4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Date Placeholder 4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5A10-7BE4-4641-9DF5-DD7AD2336F9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F12A-80B9-4064-AB90-BFA237EAB131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</a:rPr>
              <a:t>Scolex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5320" cy="449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  <a:ea typeface="宋体"/>
              </a:rPr>
              <a:t>T. sol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756320" y="2362320"/>
            <a:ext cx="3774960" cy="4495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T. sagi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733920" cy="4038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"/>
          <p:cNvPicPr/>
          <p:nvPr/>
        </p:nvPicPr>
        <p:blipFill>
          <a:blip r:embed="rId2"/>
          <a:stretch/>
        </p:blipFill>
        <p:spPr>
          <a:xfrm>
            <a:off x="4800600" y="2971800"/>
            <a:ext cx="3657600" cy="38862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"/>
          <p:cNvPicPr/>
          <p:nvPr/>
        </p:nvPicPr>
        <p:blipFill>
          <a:blip r:embed="rId3"/>
          <a:stretch/>
        </p:blipFill>
        <p:spPr>
          <a:xfrm>
            <a:off x="5105520" y="3419640"/>
            <a:ext cx="3278160" cy="3438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0" descr=""/>
          <p:cNvPicPr/>
          <p:nvPr/>
        </p:nvPicPr>
        <p:blipFill>
          <a:blip r:embed="rId4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"/>
          <p:cNvPicPr/>
          <p:nvPr/>
        </p:nvPicPr>
        <p:blipFill>
          <a:blip r:embed="rId5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Date Placeholder 4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7B52-BB16-4CB1-BC0D-C305BB96BDA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7995-9E59-4BE9-8382-42D99634A68A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Arial"/>
                <a:ea typeface="宋体"/>
              </a:rPr>
              <a:t>Mature proglotti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5320" cy="449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  <a:ea typeface="宋体"/>
              </a:rPr>
              <a:t>T. sol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56320" y="2362320"/>
            <a:ext cx="3774960" cy="4495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T. sagi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810240" cy="4038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"/>
          <p:cNvPicPr/>
          <p:nvPr/>
        </p:nvPicPr>
        <p:blipFill>
          <a:blip r:embed="rId2"/>
          <a:stretch/>
        </p:blipFill>
        <p:spPr>
          <a:xfrm>
            <a:off x="4724280" y="2819520"/>
            <a:ext cx="3810240" cy="40384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" descr=""/>
          <p:cNvPicPr/>
          <p:nvPr/>
        </p:nvPicPr>
        <p:blipFill>
          <a:blip r:embed="rId3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0" descr=""/>
          <p:cNvPicPr/>
          <p:nvPr/>
        </p:nvPicPr>
        <p:blipFill>
          <a:blip r:embed="rId4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4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3FCD-9165-4988-A2D9-71C3EF05DEA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E668-F2A4-4650-ABE5-7EA2CC2BB1D6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  <a:ea typeface="宋体"/>
              </a:rPr>
              <a:t>Gravid proglottid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5320" cy="449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  <a:ea typeface="宋体"/>
              </a:rPr>
              <a:t>T. sol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56320" y="2362320"/>
            <a:ext cx="3774960" cy="4495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T. sagi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5" descr=""/>
          <p:cNvPicPr/>
          <p:nvPr/>
        </p:nvPicPr>
        <p:blipFill>
          <a:blip r:embed="rId1"/>
          <a:stretch/>
        </p:blipFill>
        <p:spPr>
          <a:xfrm>
            <a:off x="838080" y="2895480"/>
            <a:ext cx="3733920" cy="39625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3657600" cy="3962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"/>
          <p:cNvPicPr/>
          <p:nvPr/>
        </p:nvPicPr>
        <p:blipFill>
          <a:blip r:embed="rId3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"/>
          <p:cNvPicPr/>
          <p:nvPr/>
        </p:nvPicPr>
        <p:blipFill>
          <a:blip r:embed="rId4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E5B7-09DE-4D3F-A7C7-7969FD7A6D3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697F-4BD3-4307-B076-4CAEB27F8F25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Hist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61760" y="2362320"/>
            <a:ext cx="8381880" cy="4495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rd century BC: Aristophanes &amp; Aristotle; first described Cysticercosis in pi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: Parunoli; noticed Cysticercosis in hum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d in ancient Indian medical book,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arak Sanhi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pocrates;  first documen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aenia soli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00: Audry; first repor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agin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ut unable to distinguish proglottids of two tapewor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82: Goeze; first correctly distinguis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oliu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agina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reatise on helminthology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53: Kuchenmeister indicated cysticercus as developmental stag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oli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Date Placeholder 4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A94D-2A3B-4EAD-80A4-F35D617E277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2073-9E8A-43EF-A469-7486E16AB450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  <a:ea typeface="宋体"/>
              </a:rPr>
              <a:t>Cysticercu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5320" cy="449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  <a:ea typeface="宋体"/>
              </a:rPr>
              <a:t>T. sol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756320" y="2362320"/>
            <a:ext cx="3774960" cy="4495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33"/>
                </a:solidFill>
                <a:latin typeface="Arial"/>
              </a:rPr>
              <a:t>T. sagi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3657600" cy="39625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3657600" cy="3962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"/>
          <p:cNvPicPr/>
          <p:nvPr/>
        </p:nvPicPr>
        <p:blipFill>
          <a:blip r:embed="rId3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"/>
          <p:cNvPicPr/>
          <p:nvPr/>
        </p:nvPicPr>
        <p:blipFill>
          <a:blip r:embed="rId4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5610-1A03-42BE-996F-B51A4BA2BBB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8B19-9AC3-4628-9606-986998F9F607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Life cycle of </a:t>
            </a:r>
            <a:r>
              <a:rPr b="0" i="1" lang="en-US" sz="3600" spc="-1" strike="noStrike">
                <a:solidFill>
                  <a:srgbClr val="0066cc"/>
                </a:solidFill>
                <a:latin typeface="Arial"/>
              </a:rPr>
              <a:t>T. sagina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"/>
          <p:cNvPicPr/>
          <p:nvPr/>
        </p:nvPicPr>
        <p:blipFill>
          <a:blip r:embed="rId2"/>
          <a:srcRect l="8107" t="39656" r="67573" b="41385"/>
          <a:stretch/>
        </p:blipFill>
        <p:spPr>
          <a:xfrm>
            <a:off x="3809880" y="4038480"/>
            <a:ext cx="2590920" cy="19051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"/>
          <p:cNvPicPr/>
          <p:nvPr/>
        </p:nvPicPr>
        <p:blipFill>
          <a:blip r:embed="rId3"/>
          <a:srcRect l="52784" t="13470" r="26857" b="36030"/>
          <a:stretch/>
        </p:blipFill>
        <p:spPr>
          <a:xfrm>
            <a:off x="6248520" y="2286000"/>
            <a:ext cx="2895480" cy="1371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7"/>
          <p:cNvSpPr/>
          <p:nvPr/>
        </p:nvSpPr>
        <p:spPr>
          <a:xfrm>
            <a:off x="152280" y="152280"/>
            <a:ext cx="152424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Cont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8337-5B65-4378-99FF-7A1455CA872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9916-30CD-4AC8-8ED3-878FFD88A279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CLINICAL SIGNS IN CATTLE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ospheres develop in skeletal &amp; cardiac muscles &amp; in fat &amp; visceral orga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d symptoms: Increased pulse &amp; respiratory rates, slight increase in body temp. depending on dose of infec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 inflammatory reactions (Ory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t al.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8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vy infestation by larv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carditis or heart fail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094B-EAFE-422D-99D0-9E15EBAE6E3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16D0-680D-4BB0-A5F7-6AB712DA0FF1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Clinical signs in Hum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estation with mild sympto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use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dominal discomfort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igastric pain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rrhe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tamin deficienc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ssive appetite or loss of appeti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ak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 of weigh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estive disturb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stinal block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7DB7-A689-40AC-BBD8-09C0653C18D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0DC0-0C24-4616-8C95-AC92E20BBCED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DIAGNOSIS IN HUMAN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y finding gravid proglottides or egg in stoo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95560" indent="-26676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rect fecal sme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95560" indent="-26676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ine floatation techniqu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95560" indent="-26676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ellophane-tape techniq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95560" indent="-26676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tch tape t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 algn="just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cal concentration techniques (Kato thick smear, Formyl 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enia antigens in st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3203280" y="18381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  <a:ea typeface="宋体"/>
              </a:rPr>
              <a:t>Taeni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A3C0-737B-41D1-B9A9-E67FB596E0D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F06E-1C1D-4BF5-9E48-088D68168A11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nical Manifes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uroimaging / Radiological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: Sensitivity and specificity over 95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I: Most accurate technique to assess degree of infection, location &amp; evolutionary stage of  parasi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3051000" y="182880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  <a:ea typeface="宋体"/>
              </a:rPr>
              <a:t>Cysticerc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AC4D-4B33-4335-AB45-108179B8D3F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02CD-183E-47DF-8429-2CAAA76A7438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immunotransfer Blo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ilizes lentil-lectin purified glycoproteins (LL-GP) diagnosis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. soliu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sticercosis based on antibody det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-Linked Immunosorbent Assa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tibody detection ELI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tigen detection ELI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t ELI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B6C9-B1AE-46AD-9578-E710CC9C889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4447-8FA4-4A52-A0B3-4855FFF8FD1F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DIAGNOSIS OF CYSTICERCOSIS IN CATTL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cass inspe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al incision &amp; inspection of target organs/muscle groups: heart, masseters, tongue, triceps brachii &amp; diaphragm; search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. saginat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ys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-Linked Immunosorbent Assa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ibody detection ELISA: 3 weeks post-infec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igen detection ELI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immunotransfer Blo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stick-immunoassa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t-ELISA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5DD4-7B63-4D31-BE6E-C6CE3944068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9E8C-1CB8-4CB7-AE2B-ADE7E4545E2C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DIAGNOSIS OF CYSTICERCOSIS IN PIG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cass inspe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sensitive to detect dead, degenerated, or calcified cysticerci; but most likely to miss quite a number of viable cysticerci (same pinkish-red color as meat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 incision &amp; careful observation in “predilection” sites: heart, masseters, tongue, &amp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ceps brachi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o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t al.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ngue palp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tion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oliu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sts in live pigs by palpation and visual inspection (high specificity (100%), but generally low sensitivity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A306-EC68-4403-8B3E-DFD5FFC70D5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8056-D821-41B2-9153-38733EC93A9E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immunotransfer Blot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sensitive and specific assays for the detection of antibodies specific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oliu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sticercosis in pig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-Linked Immunosorbent Ass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body detection ELISA: assay detects Ig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gen detection ELIS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6E0F-2F1C-431F-94C8-D321CE9BAF3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8B93-FAF0-4512-AC53-D6EA83239DB8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1760" y="2362320"/>
            <a:ext cx="8381880" cy="4495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63: Leuckart first showed experimentally proglottid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agina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d to calves developed into cysticerci in the calf's muscl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iver, first discover that when humans ingested "bladder worms,“ they developed adul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sagina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88: Armstrong reported NCC in a coolie from Madras, who died to seizure &amp; found infected with cyst on autops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12: Krishnaswamy reported cysticerci related case of muscle pain &amp; s/c nodules with abundant cysticerci in muscles, heart &amp; brain at autops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34: MacArthur noticed high rate of  onset epilepsy related to cysticercosis in British army deployed in Ind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4332-A044-4C31-BFC2-1DEE4E7BBF8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0253-D683-464C-9936-86BE97837B7E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57800" y="75780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Revised Diagnostic Criteria for NC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lut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logical demonstration of  parasite from biopsy of brain or spinal cord le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stic lesions with scolex on CT or MR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visualization of sub retinal parasite by fundosco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ions highly suggestive of NCC on neuroim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 serum EITB for detection of anticysticercal antibod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ution of cysts after antiparasitic thera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ntaneous resolution of small single enhancing le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ED84-182C-4C1F-B676-3E63950BE39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763E-1802-48AC-A620-3B382A5820E7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ions compatible with NCC on neuroima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ical manifestations suggestive of N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 CSF-ELISA for detection of anticysti-cereal Ab or cysticercal 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sticercosis outside C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demiolog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idence of household contact wi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 soliu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al coming from living in endemic are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y of  travel to  endemic are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4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B271-1506-4531-B230-49E38A72B4D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93AC-5CDF-4C2F-AC1B-05412CBBFFD2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  <a:ea typeface="宋体"/>
              </a:rPr>
              <a:t>Treat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1447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umpkin se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reca nut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764280" y="3886200"/>
            <a:ext cx="33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Drug of cho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838080" y="4495680"/>
          <a:ext cx="8305920" cy="2362320"/>
        </p:xfrm>
        <a:graphic>
          <a:graphicData uri="http://schemas.openxmlformats.org/drawingml/2006/table">
            <a:tbl>
              <a:tblPr/>
              <a:tblGrid>
                <a:gridCol w="2770200"/>
                <a:gridCol w="2765520"/>
                <a:gridCol w="27702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u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ult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diatric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aziquant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-10 mg/kg o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-10 mg/kgonc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closami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gm o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mg/kg o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ff"/>
                    </a:solidFill>
                  </a:tcPr>
                </a:tc>
              </a:tr>
            </a:tbl>
          </a:graphicData>
        </a:graphic>
      </p:graphicFrame>
      <p:sp>
        <p:nvSpPr>
          <p:cNvPr id="395" name="Rectangle 34"/>
          <p:cNvSpPr/>
          <p:nvPr/>
        </p:nvSpPr>
        <p:spPr>
          <a:xfrm>
            <a:off x="3584160" y="185724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  <a:ea typeface="宋体"/>
              </a:rPr>
              <a:t>Taeni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9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DC61-2191-42AC-A482-9B41B15CD42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FF7D-8373-4434-9496-BCA498FE0C34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side nervous system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ign disorder not merit specific trea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urocysticerc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gical or cyst excision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tricular shunts or steroids to decrease infl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ziquant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bendazo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3432240" y="1843200"/>
            <a:ext cx="24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  <a:ea typeface="宋体"/>
              </a:rPr>
              <a:t>Cysticerc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6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DAD4-3752-4133-A685-B652B8D87B7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4A80-C650-4A82-A96E-3A2C71091514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GUIDELINES FOR TREATMENT OF NEURO-CYSTICERCOS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4" descr=""/>
          <p:cNvPicPr/>
          <p:nvPr/>
        </p:nvPicPr>
        <p:blipFill>
          <a:blip r:embed="rId1"/>
          <a:srcRect l="0" t="11867" r="0" b="0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575B-C38C-4B26-9206-75E73AFF9DA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4BA1-6F4C-40EC-ACF3-ABF124F69718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ARGU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major arguments against  use of cysticidal therapy in NCC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ediate risks because of neurologic symptoms due to acute inflammation results from death of cys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-term prognosis of underlying seizure disorder may worsen because of increased scarring due to acute inflamma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atment may be unnecessary since most cysts die by themselves within a short period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158B-595C-4460-8796-B994C3F12B1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817C-B4D1-4543-90DF-C7806EFC06A1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  <a:ea typeface="宋体"/>
              </a:rPr>
              <a:t>PREVENTION &amp;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CONTROL MEAS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hygiene &amp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ealth educa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oid eating raw bean-pork or beef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void pigs or cattle eating human s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nitary inspection of slaughte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ying only officially inspected meat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casses irradiation.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6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0D5F-A58E-4362-ADD0-ECD74761D89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9B8D-BDB7-4C61-ABCE-180776FB41A2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25040" cy="41148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king of beef at 5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, refrigeration at -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or less for 2 days, pickling meat in 25% salt solution for 5 day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nitary disposal of night soi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ol examination of food handlers from endemic cou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 eating uncooked vegetables &amp; fruits that cannot be peeled while traveling in developing countries (NCC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F324-9E44-4C32-AC7E-F85159534DA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3CE6-2122-4807-B584-2C267EAAAEBC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equate meat inspection: most important public health measure practised in controlling transmission cycle of para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ss chemotherapy (using praziquantel &amp;/or albendazole &amp; praziquantel or niclosamid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ccination of pig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1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2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0B3A-1BE7-439B-8802-0CD0BFB80C1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D948-9A59-4CD2-8B6E-877F52670AB1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834480" y="834120"/>
            <a:ext cx="793224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Recombinant Vaccines against Cysticercos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0">
            <a:noFill/>
          </a:ln>
        </p:spPr>
      </p:pic>
      <p:pic>
        <p:nvPicPr>
          <p:cNvPr id="436" name="Ink 4" descr=""/>
          <p:cNvPicPr/>
          <p:nvPr/>
        </p:nvPicPr>
        <p:blipFill>
          <a:blip r:embed="rId2"/>
          <a:stretch/>
        </p:blipFill>
        <p:spPr>
          <a:xfrm>
            <a:off x="725400" y="4533840"/>
            <a:ext cx="5527800" cy="293760"/>
          </a:xfrm>
          <a:prstGeom prst="rect">
            <a:avLst/>
          </a:prstGeom>
          <a:ln w="0">
            <a:noFill/>
          </a:ln>
        </p:spPr>
      </p:pic>
      <p:pic>
        <p:nvPicPr>
          <p:cNvPr id="437" name="Ink 5" descr=""/>
          <p:cNvPicPr/>
          <p:nvPr/>
        </p:nvPicPr>
        <p:blipFill>
          <a:blip r:embed="rId3"/>
          <a:stretch/>
        </p:blipFill>
        <p:spPr>
          <a:xfrm>
            <a:off x="750960" y="4781520"/>
            <a:ext cx="5406840" cy="3477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"/>
          <p:cNvPicPr/>
          <p:nvPr/>
        </p:nvPicPr>
        <p:blipFill>
          <a:blip r:embed="rId4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9" descr=""/>
          <p:cNvPicPr/>
          <p:nvPr/>
        </p:nvPicPr>
        <p:blipFill>
          <a:blip r:embed="rId5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BD94-6657-4B68-8F59-DFB9486B869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51E1-77C7-4317-BD09-D1C096765D39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cc"/>
                </a:solidFill>
                <a:latin typeface="Arial"/>
                <a:ea typeface="宋体"/>
              </a:rPr>
              <a:t>Taenia soliu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4495680" cy="4495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rk  or Armed tapewo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ult:  Human S.I. causing taenias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arval stage (Cysticercus cellulose): Pig or human tissues causing cysticerco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H: 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H: Pig &amp; 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5257800" y="2362320"/>
            <a:ext cx="3886200" cy="4495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4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828E-5719-4296-AE0D-D3F16882C85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89B5-56D0-4EB9-AF2A-E44971664544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4" descr=""/>
          <p:cNvPicPr/>
          <p:nvPr/>
        </p:nvPicPr>
        <p:blipFill>
          <a:blip r:embed="rId1"/>
          <a:stretch/>
        </p:blipFill>
        <p:spPr>
          <a:xfrm>
            <a:off x="-3240" y="144792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5"/>
          <p:cNvSpPr/>
          <p:nvPr/>
        </p:nvSpPr>
        <p:spPr>
          <a:xfrm>
            <a:off x="3116880" y="3011400"/>
            <a:ext cx="51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3300"/>
                </a:solidFill>
                <a:latin typeface="Vrinda"/>
              </a:rPr>
              <a:t>THANK YOU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9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9144000" cy="27432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" descr=""/>
          <p:cNvPicPr/>
          <p:nvPr/>
        </p:nvPicPr>
        <p:blipFill>
          <a:blip r:embed="rId3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7" descr=""/>
          <p:cNvPicPr/>
          <p:nvPr/>
        </p:nvPicPr>
        <p:blipFill>
          <a:blip r:embed="rId4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9AE1-9565-4A80-8077-3B89B21E175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F229-A6D4-4BFC-B1D5-9F6DE4A30415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Arial"/>
                <a:ea typeface="宋体"/>
              </a:rPr>
              <a:t>Morpholog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2286000"/>
            <a:ext cx="4114800" cy="457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lattened ribbon-lik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reamy white in colo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-7 m long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00-1000 proglotti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sist of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colex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ck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robil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681720" y="180504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d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2" descr=""/>
          <p:cNvPicPr/>
          <p:nvPr/>
        </p:nvPicPr>
        <p:blipFill>
          <a:blip r:embed="rId1"/>
          <a:srcRect l="24403" t="15602" r="52948" b="26466"/>
          <a:stretch/>
        </p:blipFill>
        <p:spPr>
          <a:xfrm>
            <a:off x="4876920" y="2362320"/>
            <a:ext cx="4267080" cy="2057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"/>
          <p:cNvPicPr/>
          <p:nvPr/>
        </p:nvPicPr>
        <p:blipFill>
          <a:blip r:embed="rId2"/>
          <a:srcRect l="80366" t="3453" r="0" b="0"/>
          <a:stretch/>
        </p:blipFill>
        <p:spPr>
          <a:xfrm>
            <a:off x="4876920" y="4419720"/>
            <a:ext cx="4267080" cy="24382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4"/>
          <p:cNvSpPr/>
          <p:nvPr/>
        </p:nvSpPr>
        <p:spPr>
          <a:xfrm>
            <a:off x="5943600" y="36576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8001000" y="60958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3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"/>
          <p:cNvPicPr/>
          <p:nvPr/>
        </p:nvPicPr>
        <p:blipFill>
          <a:blip r:embed="rId4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078C-C24F-465E-B03E-A0BA31FB891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9C8B-7D9B-4639-A025-F3A7CE2BF05E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1760" y="2286000"/>
            <a:ext cx="4190760" cy="457200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宋体"/>
              </a:rPr>
              <a:t>Sco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Globular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mm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 sucker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 rostellu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22-36 hooklets arranged in a double crow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N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arrowest part of body (5-10 mm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udding zone containing germinative tissu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743560" y="1808280"/>
            <a:ext cx="28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宋体"/>
              </a:rPr>
              <a:t>Scolex &amp;Ne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2880" y="2286000"/>
            <a:ext cx="1600200" cy="2819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4952880" y="5105520"/>
            <a:ext cx="4191120" cy="1752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4"/>
          <a:stretch/>
        </p:blipFill>
        <p:spPr>
          <a:xfrm>
            <a:off x="6553080" y="2286000"/>
            <a:ext cx="2590920" cy="2819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"/>
          <p:cNvPicPr/>
          <p:nvPr/>
        </p:nvPicPr>
        <p:blipFill>
          <a:blip r:embed="rId5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6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FADC-B4C0-4212-87A0-1062D8CB2FAC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6071-44B0-46B3-A83D-8EBC361C0FD2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宋体"/>
              </a:rPr>
              <a:t>STROBIL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191120" cy="4495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mmature proglott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ture proglott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ravid proglott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  <a:ea typeface="宋体"/>
              </a:rPr>
              <a:t>Immature proglottids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ransverse rectangl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cated at anterior part of 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ner organs develo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dth&gt;lengt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rcRect l="49653" t="0" r="0" b="0"/>
          <a:stretch/>
        </p:blipFill>
        <p:spPr>
          <a:xfrm>
            <a:off x="5029200" y="228600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5029200" y="6400800"/>
            <a:ext cx="4114800" cy="459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bila  of adult tapew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C48F-136E-44B1-85CE-A926D94241D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B34C-067D-4765-9FB1-1BC3E3BED55B}" type="slidenum">
              <a:rPr b="1" lang="en-US" sz="26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4114800" cy="449568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quare shap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id bod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productive systems fully develop (hermaphroditic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stes: 150-200 follic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centrally straight uteru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 lobes of ov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dth=leng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133720" y="1676520"/>
            <a:ext cx="52578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Mature proglott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4952880" y="2362320"/>
            <a:ext cx="4191120" cy="4495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120600" y="41400"/>
            <a:ext cx="1523880" cy="1017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3"/>
          <a:stretch/>
        </p:blipFill>
        <p:spPr>
          <a:xfrm>
            <a:off x="7689960" y="-324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</dc:creator>
  <dc:description/>
  <dc:language>en-US</dc:language>
  <cp:lastModifiedBy>dranjayvet@gmail.com</cp:lastModifiedBy>
  <dcterms:modified xsi:type="dcterms:W3CDTF">2020-05-17T07:04:4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